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002960" y="694800"/>
            <a:ext cx="4838760" cy="34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2968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81520" y="0"/>
            <a:ext cx="2968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8686800"/>
            <a:ext cx="2968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Num" idx="4"/>
          </p:nvPr>
        </p:nvSpPr>
        <p:spPr>
          <a:xfrm>
            <a:off x="3881520" y="8686800"/>
            <a:ext cx="2967120" cy="4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CCE993-5851-4FFC-9445-41F16B0A8BE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3881520" y="8686800"/>
            <a:ext cx="2968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656C09-EF97-4504-8BA2-EC8F0BF0091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3881520" y="8686800"/>
            <a:ext cx="2968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30C0E1-8582-42A2-BC3D-07C6788EAB4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3881520" y="8686800"/>
            <a:ext cx="2968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DEC08A-A477-4C8E-B50A-DB7913CD7F4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3881520" y="8686800"/>
            <a:ext cx="2968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D7602D-BCF1-4B7D-9EF3-7F739648D61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3881520" y="8686800"/>
            <a:ext cx="2968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DF1D17-5E35-46EC-AE9C-8C771B9EE39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3881520" y="8686800"/>
            <a:ext cx="2968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411C84-D296-4686-9057-E58D3033774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3881520" y="8686800"/>
            <a:ext cx="2968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23B905-8802-4F41-A832-AB6FBAD77CD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881520" y="8686800"/>
            <a:ext cx="2968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7A1A69-7917-4E7A-AF0B-2EF5357E53C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3881520" y="8686800"/>
            <a:ext cx="2968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FBA6CC-2D90-4A43-B0A1-5793270FCCC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3881520" y="8686800"/>
            <a:ext cx="2968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294215-4865-4026-9986-505BD8F0F4B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3881520" y="8686800"/>
            <a:ext cx="2968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443955-AF52-4DB2-B254-E5C1F74DE4F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881520" y="8686800"/>
            <a:ext cx="2968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5E3745-008F-404C-A69C-20CA95EB643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881520" y="8686800"/>
            <a:ext cx="2968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49ABE4-D671-487C-9013-23A6122E959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3881520" y="8686800"/>
            <a:ext cx="2968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98CFD8-41F2-432C-B7C6-50241269B50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3881520" y="8686800"/>
            <a:ext cx="2968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476EDF-044D-4D72-B589-566153141CE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84DE5-3D35-4D8F-A9F7-61E0D2A855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51960" y="436320"/>
            <a:ext cx="76647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83720" y="1670040"/>
            <a:ext cx="7534440" cy="18777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783720" y="3726720"/>
            <a:ext cx="7534440" cy="18777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5B073-5398-458F-934C-8788C46EAD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51960" y="436320"/>
            <a:ext cx="76647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83720" y="1670040"/>
            <a:ext cx="3676680" cy="18777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44720" y="1670040"/>
            <a:ext cx="3676680" cy="18777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83720" y="3726720"/>
            <a:ext cx="3676680" cy="18777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44720" y="3726720"/>
            <a:ext cx="3676680" cy="18777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1CFCC-74D3-46F4-A7D3-4B7ACB9765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1960" y="436320"/>
            <a:ext cx="76647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83720" y="1670040"/>
            <a:ext cx="2425680" cy="18777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31080" y="1670040"/>
            <a:ext cx="2425680" cy="18777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78440" y="1670040"/>
            <a:ext cx="2425680" cy="18777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783720" y="3726720"/>
            <a:ext cx="2425680" cy="18777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31080" y="3726720"/>
            <a:ext cx="2425680" cy="18777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78440" y="3726720"/>
            <a:ext cx="2425680" cy="18777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2DBB1-BBCC-46BC-AB89-FEBB201376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0638C-5E75-40B8-B8E7-4C80BD1423E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1960" y="436320"/>
            <a:ext cx="76647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783720" y="1670040"/>
            <a:ext cx="7534440" cy="393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39184-6A85-4BAF-8EF5-B3327BA22EC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1960" y="436320"/>
            <a:ext cx="76647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83720" y="1670040"/>
            <a:ext cx="7534440" cy="39369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A9201-BF0A-41D7-8586-A6A4DA01B41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1960" y="436320"/>
            <a:ext cx="76647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83720" y="1670040"/>
            <a:ext cx="3676680" cy="39369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4720" y="1670040"/>
            <a:ext cx="3676680" cy="39369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DF56C-B67B-4221-910C-4256AC51148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1960" y="436320"/>
            <a:ext cx="76647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DC01D-D0DE-45E6-B1B2-7C288C23F24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51960" y="436320"/>
            <a:ext cx="766476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1215C-AF48-435D-AB30-16616D85C18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51960" y="436320"/>
            <a:ext cx="76647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83720" y="1670040"/>
            <a:ext cx="3676680" cy="18777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4720" y="1670040"/>
            <a:ext cx="3676680" cy="39369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83720" y="3726720"/>
            <a:ext cx="3676680" cy="18777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D5EF8-E95D-419B-B614-F7868E9BE3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1960" y="436320"/>
            <a:ext cx="76647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783720" y="1670040"/>
            <a:ext cx="7534440" cy="393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F27BC-EBBE-404E-969C-0A6EB8197B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1960" y="436320"/>
            <a:ext cx="76647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83720" y="1670040"/>
            <a:ext cx="3676680" cy="39369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4720" y="1670040"/>
            <a:ext cx="3676680" cy="18777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44720" y="3726720"/>
            <a:ext cx="3676680" cy="18777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ED317-2D7D-486F-8427-8027BD6BE19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1960" y="436320"/>
            <a:ext cx="76647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83720" y="1670040"/>
            <a:ext cx="3676680" cy="18777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4720" y="1670040"/>
            <a:ext cx="3676680" cy="18777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83720" y="3726720"/>
            <a:ext cx="7534440" cy="18777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672FE-7260-4BB1-B1F5-CE31774E843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1960" y="436320"/>
            <a:ext cx="76647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83720" y="1670040"/>
            <a:ext cx="7534440" cy="18777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783720" y="3726720"/>
            <a:ext cx="7534440" cy="18777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89093-EBD4-4EE4-B508-C851CD33B2E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1960" y="436320"/>
            <a:ext cx="76647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83720" y="1670040"/>
            <a:ext cx="3676680" cy="18777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4720" y="1670040"/>
            <a:ext cx="3676680" cy="18777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783720" y="3726720"/>
            <a:ext cx="3676680" cy="18777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44720" y="3726720"/>
            <a:ext cx="3676680" cy="18777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6D24A-B183-47EB-B669-B6BB380D3F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1960" y="436320"/>
            <a:ext cx="76647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83720" y="1670040"/>
            <a:ext cx="2425680" cy="18777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31080" y="1670040"/>
            <a:ext cx="2425680" cy="18777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878440" y="1670040"/>
            <a:ext cx="2425680" cy="18777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783720" y="3726720"/>
            <a:ext cx="2425680" cy="18777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31080" y="3726720"/>
            <a:ext cx="2425680" cy="18777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878440" y="3726720"/>
            <a:ext cx="2425680" cy="18777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18E4D-E6EE-4669-AB0D-963E67795E5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5954-0BD1-4F0C-AC86-8585BAF392E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1960" y="436320"/>
            <a:ext cx="76647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3720" y="1670040"/>
            <a:ext cx="7534440" cy="393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A409-7DA6-434A-A12B-248C6C9D5CE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1960" y="436320"/>
            <a:ext cx="76647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83720" y="1670040"/>
            <a:ext cx="7534440" cy="39369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4D69-5223-4602-A9FD-6F5B6F16175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1960" y="436320"/>
            <a:ext cx="76647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83720" y="1670040"/>
            <a:ext cx="3676680" cy="39369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4720" y="1670040"/>
            <a:ext cx="3676680" cy="39369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6DB1-5933-447C-A232-51A690C2CA0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1960" y="436320"/>
            <a:ext cx="76647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4A61-0E0C-423A-9A09-A95D564262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1960" y="436320"/>
            <a:ext cx="76647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83720" y="1670040"/>
            <a:ext cx="7534440" cy="39369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14114-2265-420C-A912-6FBA2EF8724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51960" y="436320"/>
            <a:ext cx="766476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6EA6-05D3-4482-A4CD-4894A1A6755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51960" y="436320"/>
            <a:ext cx="76647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83720" y="1670040"/>
            <a:ext cx="3676680" cy="18777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4720" y="1670040"/>
            <a:ext cx="3676680" cy="39369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83720" y="3726720"/>
            <a:ext cx="3676680" cy="18777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8A8B-2FB5-4DE0-AC95-3CEB24BF65C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1960" y="436320"/>
            <a:ext cx="76647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83720" y="1670040"/>
            <a:ext cx="3676680" cy="39369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4720" y="1670040"/>
            <a:ext cx="3676680" cy="18777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44720" y="3726720"/>
            <a:ext cx="3676680" cy="18777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E2A3-24C5-4E52-891C-391E6BAAABB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1960" y="436320"/>
            <a:ext cx="76647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83720" y="1670040"/>
            <a:ext cx="3676680" cy="18777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4720" y="1670040"/>
            <a:ext cx="3676680" cy="18777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83720" y="3726720"/>
            <a:ext cx="7534440" cy="18777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7D53-5B67-4155-B3AF-C0CE753F3EA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51960" y="436320"/>
            <a:ext cx="76647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83720" y="1670040"/>
            <a:ext cx="7534440" cy="18777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783720" y="3726720"/>
            <a:ext cx="7534440" cy="18777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806D-C873-437D-84A8-450BB8D5ED7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1960" y="436320"/>
            <a:ext cx="76647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83720" y="1670040"/>
            <a:ext cx="3676680" cy="18777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4720" y="1670040"/>
            <a:ext cx="3676680" cy="18777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783720" y="3726720"/>
            <a:ext cx="3676680" cy="18777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44720" y="3726720"/>
            <a:ext cx="3676680" cy="18777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E612-E16A-4C9F-A489-4FA5BF2E615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51960" y="436320"/>
            <a:ext cx="76647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83720" y="1670040"/>
            <a:ext cx="2425680" cy="18777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31080" y="1670040"/>
            <a:ext cx="2425680" cy="18777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878440" y="1670040"/>
            <a:ext cx="2425680" cy="18777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783720" y="3726720"/>
            <a:ext cx="2425680" cy="18777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31080" y="3726720"/>
            <a:ext cx="2425680" cy="18777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878440" y="3726720"/>
            <a:ext cx="2425680" cy="18777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4609-0FDB-409D-BFBC-240964A26B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51960" y="436320"/>
            <a:ext cx="76647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83720" y="1670040"/>
            <a:ext cx="3676680" cy="39369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4720" y="1670040"/>
            <a:ext cx="3676680" cy="39369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C23E2-1945-4252-BEE3-D68A5A1299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1960" y="436320"/>
            <a:ext cx="76647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616AA-29E9-4B2C-8685-A139CA9D85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51960" y="436320"/>
            <a:ext cx="766476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60B5B-398E-4331-A375-91EC330F22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1960" y="436320"/>
            <a:ext cx="76647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83720" y="1670040"/>
            <a:ext cx="3676680" cy="18777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4720" y="1670040"/>
            <a:ext cx="3676680" cy="39369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83720" y="3726720"/>
            <a:ext cx="3676680" cy="18777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79401-14FF-4EE7-9C8A-95C79E200F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1960" y="436320"/>
            <a:ext cx="76647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83720" y="1670040"/>
            <a:ext cx="3676680" cy="39369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4720" y="1670040"/>
            <a:ext cx="3676680" cy="18777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44720" y="3726720"/>
            <a:ext cx="3676680" cy="18777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1178F-0617-44D3-B198-1B60C1916A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1960" y="436320"/>
            <a:ext cx="76647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83720" y="1670040"/>
            <a:ext cx="3676680" cy="18777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4720" y="1670040"/>
            <a:ext cx="3676680" cy="18777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83720" y="3726720"/>
            <a:ext cx="7534440" cy="18777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68E7C-DF19-45DD-B152-6B7D2893B6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8356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440"/>
            <a:ext cx="7763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"/>
          <p:cNvSpPr/>
          <p:nvPr/>
        </p:nvSpPr>
        <p:spPr>
          <a:xfrm>
            <a:off x="1162080" y="6243480"/>
            <a:ext cx="18972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3657600" y="6243480"/>
            <a:ext cx="2887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1"/>
          </p:nvPr>
        </p:nvSpPr>
        <p:spPr>
          <a:xfrm>
            <a:off x="7041960" y="6243480"/>
            <a:ext cx="189540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572493-6F85-452A-841F-67ABF9138CE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8999640" cy="1043280"/>
            <a:chOff x="0" y="2438280"/>
            <a:chExt cx="8999640" cy="104328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01640" cy="465120"/>
              <a:chOff x="290520" y="2546280"/>
              <a:chExt cx="701640" cy="46512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28760" cy="4651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200" y="2546280"/>
                <a:ext cx="318960" cy="4651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28280" cy="465120"/>
              <a:chOff x="414360" y="2968560"/>
              <a:chExt cx="728280" cy="46512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651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360" y="2968560"/>
                <a:ext cx="359280" cy="4651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50800" cy="412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22320" cy="1043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59800"/>
              <a:ext cx="8683560" cy="4572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360" y="1676160"/>
            <a:ext cx="776268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39288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lick to add 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90720" y="6248520"/>
            <a:ext cx="189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6248520"/>
            <a:ext cx="2887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ldNum" idx="2"/>
          </p:nvPr>
        </p:nvSpPr>
        <p:spPr>
          <a:xfrm>
            <a:off x="6857640" y="6248160"/>
            <a:ext cx="189540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1c1c1c"/>
                </a:solidFill>
                <a:latin typeface="Tahom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FB4EBAC-3B74-40B6-B82B-71D7C4B47A94}" type="slidenum">
              <a:rPr b="0" lang="en-GB" sz="1400" spc="-1" strike="noStrike">
                <a:solidFill>
                  <a:srgbClr val="1c1c1c"/>
                </a:solidFill>
                <a:latin typeface="Tahoma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1960" y="436320"/>
            <a:ext cx="76647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83720" y="1670040"/>
            <a:ext cx="7534440" cy="39369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17480" y="5854680"/>
            <a:ext cx="21225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27320" y="5854680"/>
            <a:ext cx="2890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Num" idx="3"/>
          </p:nvPr>
        </p:nvSpPr>
        <p:spPr>
          <a:xfrm>
            <a:off x="6262560" y="5854680"/>
            <a:ext cx="212112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8DCE98C-9C2D-494B-BF2C-1C87C94FE8C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Presentations/englishuk%20talk/englishuk%20talk%20samples.doc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./london%20language%20show%20talk%20register.doc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flworksheets.com/" TargetMode="External"/><Relationship Id="rId3" Type="http://schemas.openxmlformats.org/officeDocument/2006/relationships/hyperlink" Target="http://www.blessthebuccaneer.com/" TargetMode="Externa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66720" y="539640"/>
            <a:ext cx="779292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Arial"/>
              </a:rPr>
              <a:t>Using Etymology to Teach English Vocabulary</a:t>
            </a:r>
            <a:br>
              <a:rPr sz="3600"/>
            </a:br>
            <a:r>
              <a:rPr b="0" lang="en-GB" sz="4000" spc="-1" strike="noStrike">
                <a:solidFill>
                  <a:srgbClr val="000000"/>
                </a:solidFill>
                <a:latin typeface="Tahoma"/>
                <a:ea typeface="Arial"/>
              </a:rPr>
              <a:t>Marc Loewenth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11280" y="2700360"/>
            <a:ext cx="7848360" cy="35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0120" indent="-6001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0012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80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 Unicode MS"/>
              </a:rPr>
              <a:t>Talk outlin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981000" indent="-5238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55000"/>
              <a:buFont typeface="Wingdings" charset="2"/>
              <a:buChar char=""/>
              <a:tabLst>
                <a:tab algn="l" pos="60012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80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Arial"/>
                <a:ea typeface="Arial Unicode MS"/>
              </a:rPr>
              <a:t>Why Use Etymolog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81000" indent="-5238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55000"/>
              <a:buFont typeface="Wingdings" charset="2"/>
              <a:buChar char=""/>
              <a:tabLst>
                <a:tab algn="l" pos="60012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80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Arial"/>
                <a:ea typeface="Arial Unicode MS"/>
              </a:rPr>
              <a:t>Qui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81000" indent="-5238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55000"/>
              <a:buFont typeface="Wingdings" charset="2"/>
              <a:buChar char=""/>
              <a:tabLst>
                <a:tab algn="l" pos="60012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80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Arial"/>
                <a:ea typeface="Arial Unicode MS"/>
              </a:rPr>
              <a:t>(Extremely) Potted History of Engli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81000" indent="-5238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55000"/>
              <a:buFont typeface="Wingdings" charset="2"/>
              <a:buChar char=""/>
              <a:tabLst>
                <a:tab algn="l" pos="60012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80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Arial"/>
                <a:ea typeface="Arial Unicode MS"/>
              </a:rPr>
              <a:t>Strategies and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81000" indent="-5238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55000"/>
              <a:buFont typeface="Wingdings" charset="2"/>
              <a:buChar char=""/>
              <a:tabLst>
                <a:tab algn="l" pos="60012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80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Arial"/>
                <a:ea typeface="Arial Unicode MS"/>
              </a:rPr>
              <a:t>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24000" y="2205000"/>
            <a:ext cx="2555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23720" indent="-31896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45000"/>
              <a:buFont typeface="Wingdings" charset="2"/>
              <a:buChar char=""/>
              <a:tabLst>
                <a:tab algn="l" pos="423720"/>
                <a:tab algn="l" pos="5284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6912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English word origins by percent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2627280" y="1774800"/>
            <a:ext cx="4897440" cy="483408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652320" y="436680"/>
            <a:ext cx="766620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Arial"/>
              </a:rPr>
              <a:t>Using Etymology to Teach English Vocabul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50920" y="1916280"/>
            <a:ext cx="8642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23720" indent="-31896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45000"/>
              <a:buFont typeface="Wingdings" charset="2"/>
              <a:buChar char=""/>
              <a:tabLst>
                <a:tab algn="l" pos="423720"/>
                <a:tab algn="l" pos="5284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6912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Most common words – according to Collins Cobui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79480" y="2724120"/>
            <a:ext cx="146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11280" y="270828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3333cc"/>
                </a:solidFill>
                <a:latin typeface="Tahoma"/>
              </a:rPr>
              <a:t>La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11280" y="342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Lat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12720" y="4005360"/>
            <a:ext cx="151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Ger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11280" y="46386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Gre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11280" y="528624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11280" y="589752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To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556000" y="2708280"/>
            <a:ext cx="64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en-GB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211640" y="2708280"/>
            <a:ext cx="64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4</a:t>
            </a:r>
            <a:r>
              <a:rPr b="0" lang="en-GB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867280" y="2708280"/>
            <a:ext cx="64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en-GB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380360" y="263700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3333cc"/>
                </a:solidFill>
                <a:latin typeface="Tahoma"/>
              </a:rPr>
              <a:t>Sh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122560" y="34290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231/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3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51280" y="34290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595/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57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506920" y="342900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777/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58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345440" y="3429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52.6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124000" y="4076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410/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61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851280" y="405144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374/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36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506920" y="4051440"/>
            <a:ext cx="17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423/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31.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40514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39.6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122560" y="470052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24/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3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851280" y="470052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60/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6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435640" y="470052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118/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9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343640" y="472428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6.6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303640" y="534816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4/&gt;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1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51280" y="534816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10/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1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614920" y="53481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21/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1.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380360" y="537228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1.2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050920" y="59594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66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816360" y="595944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103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508720" y="59500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133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416720" y="595008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304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52320" y="436680"/>
            <a:ext cx="766620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Arial"/>
              </a:rPr>
              <a:t>Using Etymology to Teach English Vocabul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1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1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1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2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2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3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3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3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5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5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5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6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6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7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7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7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324000" y="2017800"/>
            <a:ext cx="8135640" cy="41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0120" indent="-6001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0012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80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 Unicode MS"/>
              </a:rPr>
              <a:t>Strategies and Activities 1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981000" indent="-5238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55000"/>
              <a:buFont typeface="Wingdings" charset="2"/>
              <a:buChar char=""/>
              <a:tabLst>
                <a:tab algn="l" pos="60012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80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Arial"/>
                <a:ea typeface="Arial Unicode MS"/>
                <a:hlinkClick r:id="rId2"/>
              </a:rPr>
              <a:t>Meanings of words from same ro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81000" indent="-523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Tahoma"/>
              <a:buChar char="•"/>
              <a:tabLst>
                <a:tab algn="l" pos="60012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80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500" spc="-1" strike="noStrike">
                <a:solidFill>
                  <a:srgbClr val="3333cc"/>
                </a:solidFill>
                <a:latin typeface="Arial"/>
                <a:ea typeface="Arial Unicode MS"/>
              </a:rPr>
              <a:t>frangere: </a:t>
            </a:r>
            <a:r>
              <a:rPr b="0" i="1" lang="en-GB" sz="2500" spc="-1" strike="noStrike">
                <a:solidFill>
                  <a:srgbClr val="3333cc"/>
                </a:solidFill>
                <a:latin typeface="Arial"/>
                <a:ea typeface="Arial Unicode MS"/>
              </a:rPr>
              <a:t>defragment, diffract, fraction, fractious, fracture, fragile, fragment, fragmentary, frail, infraction, infringe, refrac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981000" indent="-523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Tahoma"/>
              <a:buChar char="•"/>
              <a:tabLst>
                <a:tab algn="l" pos="60012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80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500" spc="-1" strike="noStrike">
                <a:solidFill>
                  <a:srgbClr val="3333cc"/>
                </a:solidFill>
                <a:latin typeface="Arial"/>
                <a:ea typeface="Arial Unicode MS"/>
              </a:rPr>
              <a:t>regere:</a:t>
            </a:r>
            <a:r>
              <a:rPr b="1" i="1" lang="en-GB" sz="2500" spc="-1" strike="noStrike">
                <a:solidFill>
                  <a:srgbClr val="3333cc"/>
                </a:solidFill>
                <a:latin typeface="Arial"/>
                <a:ea typeface="Arial Unicode MS"/>
              </a:rPr>
              <a:t> </a:t>
            </a:r>
            <a:r>
              <a:rPr b="0" i="1" lang="en-GB" sz="2500" spc="-1" strike="noStrike">
                <a:solidFill>
                  <a:srgbClr val="3333cc"/>
                </a:solidFill>
                <a:latin typeface="Arial"/>
                <a:ea typeface="Arial Unicode MS"/>
              </a:rPr>
              <a:t>address, correct, direct, directory, dress, incorrigible, insurgent, insurrection, redress resurgent, resurrect, surg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52320" y="436680"/>
            <a:ext cx="766620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Arial"/>
              </a:rPr>
              <a:t>Using Etymology to Teach English Vocabul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dur="indefinite" fill="hold">
                      <p:stCondLst>
                        <p:cond delay="indefinite"/>
                      </p:stCondLst>
                      <p:childTnLst>
                        <p:par>
                          <p:cTn id="2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dur="indefinite" fill="hold">
                      <p:stCondLst>
                        <p:cond delay="indefinite"/>
                      </p:stCondLst>
                      <p:childTnLst>
                        <p:par>
                          <p:cTn id="2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720720" y="2017800"/>
            <a:ext cx="7559640" cy="41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0120" indent="-6001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0012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80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 Unicode MS"/>
              </a:rPr>
              <a:t>Strategies and Activities 2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981000" indent="-5238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55000"/>
              <a:buFont typeface="Wingdings" charset="2"/>
              <a:buChar char=""/>
              <a:tabLst>
                <a:tab algn="l" pos="60012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80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Arial"/>
                <a:ea typeface="Arial Unicode MS"/>
                <a:hlinkClick r:id="rId2"/>
              </a:rPr>
              <a:t>Guide to regi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81000" indent="-523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Tahoma"/>
              <a:buChar char="•"/>
              <a:tabLst>
                <a:tab algn="l" pos="60012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80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500" spc="-1" strike="noStrike">
                <a:solidFill>
                  <a:srgbClr val="3333cc"/>
                </a:solidFill>
                <a:latin typeface="Arial"/>
                <a:ea typeface="Arial Unicode MS"/>
              </a:rPr>
              <a:t>He was awarded a medal for guts in the face of the enemy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982800" indent="-524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012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80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981000" indent="-523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Tahoma"/>
              <a:buChar char="•"/>
              <a:tabLst>
                <a:tab algn="l" pos="60012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80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500" spc="-1" strike="noStrike">
                <a:solidFill>
                  <a:srgbClr val="3333cc"/>
                </a:solidFill>
                <a:latin typeface="Arial"/>
                <a:ea typeface="Arial Unicode MS"/>
              </a:rPr>
              <a:t>The loser showed a lot of valour to go toe-to -toe with the champ for twelve round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52320" y="436680"/>
            <a:ext cx="766620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Arial"/>
              </a:rPr>
              <a:t>Using Etymology to Teach English Vocabul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79280" y="3141720"/>
            <a:ext cx="388800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81000" indent="-523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"/>
              <a:tabLst>
                <a:tab algn="l" pos="1809720"/>
                <a:tab algn="l" pos="2724120"/>
                <a:tab algn="l" pos="3638520"/>
                <a:tab algn="l" pos="4552920"/>
                <a:tab algn="l" pos="5467320"/>
                <a:tab algn="l" pos="6381720"/>
                <a:tab algn="l" pos="7296120"/>
                <a:tab algn="l" pos="8210520"/>
                <a:tab algn="l" pos="9124920"/>
                <a:tab algn="l" pos="1003932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i="1" lang="en-GB" sz="2400" spc="-1" strike="noStrike">
                <a:solidFill>
                  <a:srgbClr val="3333cc"/>
                </a:solidFill>
                <a:latin typeface="Arial"/>
                <a:ea typeface="Arial Unicode MS"/>
              </a:rPr>
              <a:t>ambush</a:t>
            </a:r>
            <a:r>
              <a:rPr b="0" i="1" lang="en-GB" sz="2400" spc="-1" strike="noStrike">
                <a:solidFill>
                  <a:srgbClr val="3333cc"/>
                </a:solidFill>
                <a:latin typeface="Arial"/>
                <a:ea typeface="Arial Unicode MS"/>
              </a:rPr>
              <a:t>	</a:t>
            </a:r>
            <a:r>
              <a:rPr b="0" i="1" lang="en-GB" sz="2400" spc="-1" strike="noStrike">
                <a:solidFill>
                  <a:srgbClr val="3333cc"/>
                </a:solidFill>
                <a:latin typeface="Arial"/>
                <a:ea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1000" indent="-523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"/>
              <a:tabLst>
                <a:tab algn="l" pos="1809720"/>
                <a:tab algn="l" pos="2724120"/>
                <a:tab algn="l" pos="3638520"/>
                <a:tab algn="l" pos="4552920"/>
                <a:tab algn="l" pos="5467320"/>
                <a:tab algn="l" pos="6381720"/>
                <a:tab algn="l" pos="7296120"/>
                <a:tab algn="l" pos="8210520"/>
                <a:tab algn="l" pos="9124920"/>
                <a:tab algn="l" pos="1003932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i="1" lang="en-GB" sz="2400" spc="-1" strike="noStrike">
                <a:solidFill>
                  <a:srgbClr val="3333cc"/>
                </a:solidFill>
                <a:latin typeface="Arial"/>
                <a:ea typeface="Arial Unicode MS"/>
              </a:rPr>
              <a:t>amethyst</a:t>
            </a:r>
            <a:r>
              <a:rPr b="0" i="1" lang="en-GB" sz="2400" spc="-1" strike="noStrike">
                <a:solidFill>
                  <a:srgbClr val="3333cc"/>
                </a:solidFill>
                <a:latin typeface="Arial"/>
                <a:ea typeface="Arial Unicode MS"/>
              </a:rPr>
              <a:t>	</a:t>
            </a:r>
            <a:r>
              <a:rPr b="0" i="1" lang="en-GB" sz="2400" spc="-1" strike="noStrike">
                <a:solidFill>
                  <a:srgbClr val="3333cc"/>
                </a:solidFill>
                <a:latin typeface="Arial"/>
                <a:ea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1000" indent="-523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"/>
              <a:tabLst>
                <a:tab algn="l" pos="1809720"/>
                <a:tab algn="l" pos="2724120"/>
                <a:tab algn="l" pos="3638520"/>
                <a:tab algn="l" pos="4552920"/>
                <a:tab algn="l" pos="5467320"/>
                <a:tab algn="l" pos="6381720"/>
                <a:tab algn="l" pos="7296120"/>
                <a:tab algn="l" pos="8210520"/>
                <a:tab algn="l" pos="9124920"/>
                <a:tab algn="l" pos="1003932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i="1" lang="en-GB" sz="2400" spc="-1" strike="noStrike">
                <a:solidFill>
                  <a:srgbClr val="3333cc"/>
                </a:solidFill>
                <a:latin typeface="Arial"/>
                <a:ea typeface="Arial Unicode MS"/>
              </a:rPr>
              <a:t>avocado</a:t>
            </a:r>
            <a:r>
              <a:rPr b="0" i="1" lang="en-GB" sz="2400" spc="-1" strike="noStrike">
                <a:solidFill>
                  <a:srgbClr val="3333cc"/>
                </a:solidFill>
                <a:latin typeface="Arial"/>
                <a:ea typeface="Arial Unicode MS"/>
              </a:rPr>
              <a:t>	</a:t>
            </a:r>
            <a:r>
              <a:rPr b="0" i="1" lang="en-GB" sz="2400" spc="-1" strike="noStrike">
                <a:solidFill>
                  <a:srgbClr val="3333cc"/>
                </a:solidFill>
                <a:latin typeface="Arial"/>
                <a:ea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1000" indent="-523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"/>
              <a:tabLst>
                <a:tab algn="l" pos="1809720"/>
                <a:tab algn="l" pos="2724120"/>
                <a:tab algn="l" pos="3638520"/>
                <a:tab algn="l" pos="4552920"/>
                <a:tab algn="l" pos="5467320"/>
                <a:tab algn="l" pos="6381720"/>
                <a:tab algn="l" pos="7296120"/>
                <a:tab algn="l" pos="8210520"/>
                <a:tab algn="l" pos="9124920"/>
                <a:tab algn="l" pos="1003932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i="1" lang="en-GB" sz="2400" spc="-1" strike="noStrike">
                <a:solidFill>
                  <a:srgbClr val="3333cc"/>
                </a:solidFill>
                <a:latin typeface="Arial"/>
                <a:ea typeface="Arial Unicode MS"/>
              </a:rPr>
              <a:t>bankrupt</a:t>
            </a:r>
            <a:r>
              <a:rPr b="0" i="1" lang="en-GB" sz="2400" spc="-1" strike="noStrike">
                <a:solidFill>
                  <a:srgbClr val="3333cc"/>
                </a:solidFill>
                <a:latin typeface="Arial"/>
                <a:ea typeface="Arial Unicode MS"/>
              </a:rPr>
              <a:t>	</a:t>
            </a:r>
            <a:r>
              <a:rPr b="0" i="1" lang="en-GB" sz="2400" spc="-1" strike="noStrike">
                <a:solidFill>
                  <a:srgbClr val="3333cc"/>
                </a:solidFill>
                <a:latin typeface="Arial"/>
                <a:ea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1000" indent="-523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"/>
              <a:tabLst>
                <a:tab algn="l" pos="1809720"/>
                <a:tab algn="l" pos="2724120"/>
                <a:tab algn="l" pos="3638520"/>
                <a:tab algn="l" pos="4552920"/>
                <a:tab algn="l" pos="5467320"/>
                <a:tab algn="l" pos="6381720"/>
                <a:tab algn="l" pos="7296120"/>
                <a:tab algn="l" pos="8210520"/>
                <a:tab algn="l" pos="9124920"/>
                <a:tab algn="l" pos="1003932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i="1" lang="en-GB" sz="2400" spc="-1" strike="noStrike">
                <a:solidFill>
                  <a:srgbClr val="3333cc"/>
                </a:solidFill>
                <a:latin typeface="Arial"/>
                <a:ea typeface="Arial Unicode MS"/>
              </a:rPr>
              <a:t>bless</a:t>
            </a:r>
            <a:r>
              <a:rPr b="0" i="1" lang="en-GB" sz="2400" spc="-1" strike="noStrike">
                <a:solidFill>
                  <a:srgbClr val="3333cc"/>
                </a:solidFill>
                <a:latin typeface="Arial"/>
                <a:ea typeface="Arial Unicode MS"/>
              </a:rPr>
              <a:t>	</a:t>
            </a:r>
            <a:r>
              <a:rPr b="0" i="1" lang="en-GB" sz="2400" spc="-1" strike="noStrike">
                <a:solidFill>
                  <a:srgbClr val="3333cc"/>
                </a:solidFill>
                <a:latin typeface="Arial"/>
                <a:ea typeface="Arial Unicode MS"/>
              </a:rPr>
              <a:t>	</a:t>
            </a:r>
            <a:r>
              <a:rPr b="0" i="1" lang="en-GB" sz="2400" spc="-1" strike="noStrike">
                <a:solidFill>
                  <a:srgbClr val="3333cc"/>
                </a:solidFill>
                <a:latin typeface="Arial"/>
                <a:ea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1000" indent="-523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"/>
              <a:tabLst>
                <a:tab algn="l" pos="1809720"/>
                <a:tab algn="l" pos="2724120"/>
                <a:tab algn="l" pos="3638520"/>
                <a:tab algn="l" pos="4552920"/>
                <a:tab algn="l" pos="5467320"/>
                <a:tab algn="l" pos="6381720"/>
                <a:tab algn="l" pos="7296120"/>
                <a:tab algn="l" pos="8210520"/>
                <a:tab algn="l" pos="9124920"/>
                <a:tab algn="l" pos="1003932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i="1" lang="en-GB" sz="2400" spc="-1" strike="noStrike">
                <a:solidFill>
                  <a:srgbClr val="3333cc"/>
                </a:solidFill>
                <a:latin typeface="Arial"/>
                <a:ea typeface="Arial Unicode MS"/>
              </a:rPr>
              <a:t>companion</a:t>
            </a:r>
            <a:r>
              <a:rPr b="0" i="1" lang="en-GB" sz="2400" spc="-1" strike="noStrike">
                <a:solidFill>
                  <a:srgbClr val="3333cc"/>
                </a:solidFill>
                <a:latin typeface="Arial"/>
                <a:ea typeface="Arial Unicode MS"/>
              </a:rPr>
              <a:t>	</a:t>
            </a:r>
            <a:r>
              <a:rPr b="0" i="1" lang="en-GB" sz="2400" spc="-1" strike="noStrike">
                <a:solidFill>
                  <a:srgbClr val="3333cc"/>
                </a:solidFill>
                <a:latin typeface="Arial"/>
                <a:ea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1000" indent="-523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"/>
              <a:tabLst>
                <a:tab algn="l" pos="1809720"/>
                <a:tab algn="l" pos="2724120"/>
                <a:tab algn="l" pos="3638520"/>
                <a:tab algn="l" pos="4552920"/>
                <a:tab algn="l" pos="5467320"/>
                <a:tab algn="l" pos="6381720"/>
                <a:tab algn="l" pos="7296120"/>
                <a:tab algn="l" pos="8210520"/>
                <a:tab algn="l" pos="9124920"/>
                <a:tab algn="l" pos="1003932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i="1" lang="en-GB" sz="2400" spc="-1" strike="noStrike">
                <a:solidFill>
                  <a:srgbClr val="3333cc"/>
                </a:solidFill>
                <a:latin typeface="Arial"/>
                <a:ea typeface="Arial Unicode MS"/>
              </a:rPr>
              <a:t>croupier</a:t>
            </a:r>
            <a:r>
              <a:rPr b="0" i="1" lang="en-GB" sz="2400" spc="-1" strike="noStrike">
                <a:solidFill>
                  <a:srgbClr val="3333cc"/>
                </a:solidFill>
                <a:latin typeface="Arial"/>
                <a:ea typeface="Arial Unicode MS"/>
              </a:rPr>
              <a:t>	</a:t>
            </a:r>
            <a:r>
              <a:rPr b="0" i="1" lang="en-GB" sz="2400" spc="-1" strike="noStrike">
                <a:solidFill>
                  <a:srgbClr val="3333cc"/>
                </a:solidFill>
                <a:latin typeface="Arial"/>
                <a:ea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1000" indent="-523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"/>
              <a:tabLst>
                <a:tab algn="l" pos="1809720"/>
                <a:tab algn="l" pos="2724120"/>
                <a:tab algn="l" pos="3638520"/>
                <a:tab algn="l" pos="4552920"/>
                <a:tab algn="l" pos="5467320"/>
                <a:tab algn="l" pos="6381720"/>
                <a:tab algn="l" pos="7296120"/>
                <a:tab algn="l" pos="8210520"/>
                <a:tab algn="l" pos="9124920"/>
                <a:tab algn="l" pos="1003932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i="1" lang="en-GB" sz="2400" spc="-1" strike="noStrike">
                <a:solidFill>
                  <a:srgbClr val="3333cc"/>
                </a:solidFill>
                <a:latin typeface="Arial"/>
                <a:ea typeface="Arial Unicode MS"/>
              </a:rPr>
              <a:t>curfew</a:t>
            </a:r>
            <a:r>
              <a:rPr b="0" i="1" lang="en-GB" sz="2400" spc="-1" strike="noStrike">
                <a:solidFill>
                  <a:srgbClr val="3333cc"/>
                </a:solidFill>
                <a:latin typeface="Arial"/>
                <a:ea typeface="Arial Unicode MS"/>
              </a:rPr>
              <a:t>	</a:t>
            </a:r>
            <a:r>
              <a:rPr b="0" i="1" lang="en-GB" sz="2400" spc="-1" strike="noStrike">
                <a:solidFill>
                  <a:srgbClr val="3333cc"/>
                </a:solidFill>
                <a:latin typeface="Arial"/>
                <a:ea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74560" y="1844640"/>
            <a:ext cx="83185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0120" indent="-60012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600120"/>
                <a:tab algn="l" pos="1047600"/>
                <a:tab algn="l" pos="1496880"/>
                <a:tab algn="l" pos="1946160"/>
                <a:tab algn="l" pos="2395440"/>
                <a:tab algn="l" pos="2844720"/>
                <a:tab algn="l" pos="3294000"/>
                <a:tab algn="l" pos="3743280"/>
                <a:tab algn="l" pos="4192560"/>
                <a:tab algn="l" pos="4641840"/>
                <a:tab algn="l" pos="5091120"/>
                <a:tab algn="l" pos="5540400"/>
                <a:tab algn="l" pos="5989680"/>
                <a:tab algn="l" pos="6438960"/>
                <a:tab algn="l" pos="6888240"/>
                <a:tab algn="l" pos="7337520"/>
                <a:tab algn="l" pos="7786800"/>
                <a:tab algn="l" pos="8236080"/>
                <a:tab algn="l" pos="8685360"/>
                <a:tab algn="l" pos="9134640"/>
                <a:tab algn="l" pos="958356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trategies and Activities 3:Fascination, motivation and fun with word journe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0" y="3141720"/>
            <a:ext cx="29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060720" y="30686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3333cc"/>
                </a:solidFill>
                <a:latin typeface="Tahoma"/>
              </a:rPr>
              <a:t>embus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060720" y="34765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3333cc"/>
                </a:solidFill>
                <a:latin typeface="Tahoma"/>
              </a:rPr>
              <a:t>amethys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060720" y="39085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3333cc"/>
                </a:solidFill>
                <a:latin typeface="Tahoma"/>
              </a:rPr>
              <a:t>ahuacat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060720" y="42926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3333cc"/>
                </a:solidFill>
                <a:latin typeface="Tahoma"/>
              </a:rPr>
              <a:t>banca rot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060720" y="47005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3333cc"/>
                </a:solidFill>
                <a:latin typeface="Tahoma"/>
              </a:rPr>
              <a:t>bloedsi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060720" y="51325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3333cc"/>
                </a:solidFill>
                <a:latin typeface="Tahoma"/>
              </a:rPr>
              <a:t>compa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060720" y="59245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3333cc"/>
                </a:solidFill>
                <a:latin typeface="Tahoma"/>
              </a:rPr>
              <a:t>covref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292720" y="30430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ahoma"/>
              </a:rPr>
              <a:t>be in a bu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92720" y="34765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ahoma"/>
              </a:rPr>
              <a:t>not dru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292720" y="39085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ahoma"/>
              </a:rPr>
              <a:t>testi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92720" y="4340160"/>
            <a:ext cx="28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ahoma"/>
              </a:rPr>
              <a:t>broken bank/ben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292720" y="47005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ahoma"/>
              </a:rPr>
              <a:t>sanctify with blo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256360" y="5132520"/>
            <a:ext cx="316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ahoma"/>
              </a:rPr>
              <a:t>one who shares br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292720" y="552924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ahoma"/>
              </a:rPr>
              <a:t>horse’s rum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292720" y="592452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ahoma"/>
              </a:rPr>
              <a:t>cover f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060720" y="55198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3333cc"/>
                </a:solidFill>
                <a:latin typeface="Tahoma"/>
              </a:rPr>
              <a:t>crou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52320" y="436680"/>
            <a:ext cx="766620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Arial"/>
              </a:rPr>
              <a:t>Using Etymology to Teach English Vocabul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0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1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1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2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3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3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5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6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6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7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7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9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9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720720" y="1800360"/>
            <a:ext cx="77389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0120" indent="-6001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45000"/>
              <a:buFont typeface="Wingdings" charset="2"/>
              <a:buChar char=""/>
              <a:tabLst>
                <a:tab algn="l" pos="60012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80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 Unicode MS"/>
              </a:rPr>
              <a:t>Further information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60012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80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 u="sng">
                <a:solidFill>
                  <a:srgbClr val="ccccff"/>
                </a:solidFill>
                <a:uFillTx/>
                <a:latin typeface="Arial"/>
                <a:ea typeface="Arial Unicode MS"/>
                <a:hlinkClick r:id="rId2"/>
              </a:rPr>
              <a:t>Language show talk material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60012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80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 u="sng">
                <a:solidFill>
                  <a:srgbClr val="ccccff"/>
                </a:solidFill>
                <a:uFillTx/>
                <a:latin typeface="Arial"/>
                <a:ea typeface="Arial Unicode MS"/>
                <a:hlinkClick r:id="rId3"/>
              </a:rPr>
              <a:t>Bless the Buccaneer with Barbecued Blood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60012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80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3333cc"/>
                </a:solidFill>
                <a:latin typeface="Arial"/>
                <a:ea typeface="Arial Unicode MS"/>
              </a:rPr>
              <a:t>OED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60012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80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3333cc"/>
                </a:solidFill>
                <a:latin typeface="Arial"/>
                <a:ea typeface="Arial Unicode MS"/>
              </a:rPr>
              <a:t>Chambers Dictionary of Etymology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60012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80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3333cc"/>
                </a:solidFill>
                <a:latin typeface="Arial"/>
                <a:ea typeface="Arial Unicode MS"/>
              </a:rPr>
              <a:t>Concise Dictionary of English Etymology, W. Skeat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52320" y="436680"/>
            <a:ext cx="766620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Arial"/>
              </a:rPr>
              <a:t>Using Etymology to Teach English Vocabul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84360" y="3060720"/>
            <a:ext cx="7704000" cy="30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Arial"/>
                <a:ea typeface="Arial Unicode MS"/>
              </a:rPr>
              <a:t>He was awarded a medal for guts in th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Arial"/>
                <a:ea typeface="Arial Unicode MS"/>
              </a:rPr>
              <a:t>face of the enem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Arial"/>
                <a:ea typeface="Arial Unicode MS"/>
              </a:rPr>
              <a:t>The loser showed a lot of valour to go toe-to-toe with the champ for twelve rou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52320" y="436680"/>
            <a:ext cx="766620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Arial"/>
              </a:rPr>
              <a:t>Using Etymology to Teach English Vocabul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84360" y="2017800"/>
            <a:ext cx="7704000" cy="457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0120" indent="-6001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0012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80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 Unicode MS"/>
              </a:rPr>
              <a:t>Why teach using etymology?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981000" indent="-5238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55000"/>
              <a:buFont typeface="Wingdings" charset="2"/>
              <a:buChar char=""/>
              <a:tabLst>
                <a:tab algn="l" pos="60012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80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Arial"/>
                <a:ea typeface="Arial Unicode MS"/>
              </a:rPr>
              <a:t>It gives students a chance to explore related words and meanings of words from the same roo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81000" indent="-5238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55000"/>
              <a:buFont typeface="Wingdings" charset="2"/>
              <a:buChar char=""/>
              <a:tabLst>
                <a:tab algn="l" pos="60012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80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Arial"/>
                <a:ea typeface="Arial Unicode MS"/>
              </a:rPr>
              <a:t>It can provide a guide to regis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81000" indent="-5238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55000"/>
              <a:buFont typeface="Wingdings" charset="2"/>
              <a:buChar char=""/>
              <a:tabLst>
                <a:tab algn="l" pos="60012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80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Arial"/>
                <a:ea typeface="Arial Unicode MS"/>
              </a:rPr>
              <a:t>It can be fascinating, motivating and a lot of fu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1560" indent="-600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012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80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52320" y="436680"/>
            <a:ext cx="766620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Arial"/>
              </a:rPr>
              <a:t>Using Etymology to Teach English Vocabul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843280" y="2781360"/>
            <a:ext cx="3959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4560" y="213372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Quiz question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71640" y="278136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3333cc"/>
                </a:solidFill>
                <a:latin typeface="Tahoma"/>
              </a:rPr>
              <a:t>ch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633760" y="2781360"/>
            <a:ext cx="11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3333cc"/>
                </a:solidFill>
                <a:latin typeface="Tahoma"/>
              </a:rPr>
              <a:t>che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41760" y="2765520"/>
            <a:ext cx="136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3333cc"/>
                </a:solidFill>
                <a:latin typeface="Tahoma"/>
              </a:rPr>
              <a:t>chee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629400" y="2781360"/>
            <a:ext cx="136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3333cc"/>
                </a:solidFill>
                <a:latin typeface="Tahoma"/>
              </a:rPr>
              <a:t>cheq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63640" y="472428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3333cc"/>
                </a:solidFill>
                <a:latin typeface="Tahoma"/>
              </a:rPr>
              <a:t>bish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61080" y="471024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3333cc"/>
                </a:solidFill>
                <a:latin typeface="Tahoma"/>
              </a:rPr>
              <a:t>cha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95640" y="472428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3333cc"/>
                </a:solidFill>
                <a:latin typeface="Tahoma"/>
              </a:rPr>
              <a:t>but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456000" y="471024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3333cc"/>
                </a:solidFill>
                <a:latin typeface="Tahoma"/>
              </a:rPr>
              <a:t>chu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76360" y="371628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Quiz question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307280" y="471024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3333cc"/>
                </a:solidFill>
                <a:latin typeface="Tahoma"/>
              </a:rPr>
              <a:t>pri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77080" y="471024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3333cc"/>
                </a:solidFill>
                <a:latin typeface="Tahoma"/>
              </a:rPr>
              <a:t>pari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22560" y="558972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Gr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52320" y="436680"/>
            <a:ext cx="766620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Arial"/>
              </a:rPr>
              <a:t>Using Etymology to Teach English Vocabul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6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843280" y="2781360"/>
            <a:ext cx="3959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4560" y="213372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Quiz question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00000" y="2781360"/>
            <a:ext cx="18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3333cc"/>
                </a:solidFill>
                <a:latin typeface="Tahoma"/>
              </a:rPr>
              <a:t>guarant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86200" y="278136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3333cc"/>
                </a:solidFill>
                <a:latin typeface="Tahoma"/>
              </a:rPr>
              <a:t>gu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56000" y="276552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3333cc"/>
                </a:solidFill>
                <a:latin typeface="Tahoma"/>
              </a:rPr>
              <a:t>guerril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4360" y="443700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3333cc"/>
                </a:solidFill>
                <a:latin typeface="Tahoma"/>
              </a:rPr>
              <a:t>camber/cham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64000" y="4437000"/>
            <a:ext cx="136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kam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4360" y="577044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3333cc"/>
                </a:solidFill>
                <a:latin typeface="Tahoma"/>
              </a:rPr>
              <a:t>cattle/chatt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967280" y="443700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3333cc"/>
                </a:solidFill>
                <a:latin typeface="Tahoma"/>
              </a:rPr>
              <a:t>carry/char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76360" y="371628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Quiz question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4360" y="508644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3333cc"/>
                </a:solidFill>
                <a:latin typeface="Tahoma"/>
              </a:rPr>
              <a:t>catch/ch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7280" y="508644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3333cc"/>
                </a:solidFill>
                <a:latin typeface="Tahoma"/>
              </a:rPr>
              <a:t>castle/chatea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83280" y="276552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3333cc"/>
                </a:solidFill>
                <a:latin typeface="Tahoma"/>
              </a:rPr>
              <a:t>gu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380360" y="276552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3333cc"/>
                </a:solidFill>
                <a:latin typeface="Tahoma"/>
              </a:rPr>
              <a:t>gu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16360" y="2133720"/>
            <a:ext cx="29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German/Franki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199280" y="4422600"/>
            <a:ext cx="136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carr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059280" y="50706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cap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380360" y="510552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cast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59280" y="57546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cap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2320" y="436680"/>
            <a:ext cx="766620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Arial"/>
              </a:rPr>
              <a:t>Using Etymology to Teach English Vocabul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6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9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700360" y="162864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Quiz question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84360" y="264780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ahoma"/>
              </a:rPr>
              <a:t>count (Dracul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4360" y="221616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ahoma"/>
              </a:rPr>
              <a:t>ale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4360" y="30798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ahoma"/>
              </a:rPr>
              <a:t>croiss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84360" y="3513240"/>
            <a:ext cx="15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ahoma"/>
              </a:rPr>
              <a:t>dan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84360" y="394488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ahoma"/>
              </a:rPr>
              <a:t>da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4360" y="437688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ahoma"/>
              </a:rPr>
              <a:t>infan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4360" y="480852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ahoma"/>
              </a:rPr>
              <a:t>seve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84360" y="519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ahoma"/>
              </a:rPr>
              <a:t>s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84360" y="556416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ahoma"/>
              </a:rPr>
              <a:t>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4360" y="595008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ahoma"/>
              </a:rPr>
              <a:t>torr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300720" y="217008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spe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300720" y="264780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bur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00720" y="307980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put/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300720" y="3513240"/>
            <a:ext cx="22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concern/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35640" y="394488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po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337440" y="4402080"/>
            <a:ext cx="22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watchto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335640" y="48085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car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335640" y="5157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335640" y="55641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wh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335640" y="595008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gr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184720" y="440064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ahoma"/>
              </a:rPr>
              <a:t>ale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600360" y="519444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ahoma"/>
              </a:rPr>
              <a:t>count (Dracul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500720" y="5940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ahoma"/>
              </a:rPr>
              <a:t>croiss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859280" y="39736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ahoma"/>
              </a:rPr>
              <a:t>dan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148360" y="55800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ahoma"/>
              </a:rPr>
              <a:t>da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753080" y="220500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ahoma"/>
              </a:rPr>
              <a:t>infan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824360" y="30798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ahoma"/>
              </a:rPr>
              <a:t>seve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184720" y="4808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ahoma"/>
              </a:rPr>
              <a:t>s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219640" y="350352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ahoma"/>
              </a:rPr>
              <a:t>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24360" y="2664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ahoma"/>
              </a:rPr>
              <a:t>torr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436680"/>
            <a:ext cx="766620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Arial"/>
              </a:rPr>
              <a:t>Using Etymology to Teach English Vocabul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0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0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1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1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2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2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3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3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50920" y="2017800"/>
            <a:ext cx="8029440" cy="457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0120" indent="-6001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0012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80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 Unicode MS"/>
              </a:rPr>
              <a:t>(Extremely) Potted history of English 1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981000" indent="-523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"/>
              <a:tabLst>
                <a:tab algn="l" pos="60012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80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3333cc"/>
                </a:solidFill>
                <a:latin typeface="Arial"/>
                <a:ea typeface="Arial Unicode MS"/>
              </a:rPr>
              <a:t>Indo-European: </a:t>
            </a:r>
            <a:r>
              <a:rPr b="0" i="1" lang="en-GB" sz="2500" spc="-1" strike="noStrike">
                <a:solidFill>
                  <a:srgbClr val="3333cc"/>
                </a:solidFill>
                <a:latin typeface="Arial"/>
                <a:ea typeface="Arial Unicode MS"/>
              </a:rPr>
              <a:t>brotherly/fraternal</a:t>
            </a:r>
            <a:r>
              <a:rPr b="0" lang="en-GB" sz="2500" spc="-1" strike="noStrike">
                <a:solidFill>
                  <a:srgbClr val="3333cc"/>
                </a:solidFill>
                <a:latin typeface="Arial"/>
                <a:ea typeface="Arial Unicode MS"/>
              </a:rPr>
              <a:t>, </a:t>
            </a:r>
            <a:r>
              <a:rPr b="0" i="1" lang="en-GB" sz="2500" spc="-1" strike="noStrike">
                <a:solidFill>
                  <a:srgbClr val="3333cc"/>
                </a:solidFill>
                <a:latin typeface="Arial"/>
                <a:ea typeface="Arial Unicode MS"/>
              </a:rPr>
              <a:t>east/aurora</a:t>
            </a:r>
            <a:r>
              <a:rPr b="0" lang="en-GB" sz="2500" spc="-1" strike="noStrike">
                <a:solidFill>
                  <a:srgbClr val="3333cc"/>
                </a:solidFill>
                <a:latin typeface="Arial"/>
                <a:ea typeface="Arial Unicode MS"/>
              </a:rPr>
              <a:t>, </a:t>
            </a:r>
            <a:r>
              <a:rPr b="0" i="1" lang="en-GB" sz="2500" spc="-1" strike="noStrike">
                <a:solidFill>
                  <a:srgbClr val="3333cc"/>
                </a:solidFill>
                <a:latin typeface="Arial"/>
                <a:ea typeface="Arial Unicode MS"/>
              </a:rPr>
              <a:t>kind/genus, know/cognition, whore/charity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981000" indent="-523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"/>
              <a:tabLst>
                <a:tab algn="l" pos="60012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80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3333cc"/>
                </a:solidFill>
                <a:latin typeface="Arial"/>
                <a:ea typeface="Arial Unicode MS"/>
              </a:rPr>
              <a:t>Roman Empire: </a:t>
            </a:r>
            <a:r>
              <a:rPr b="0" i="1" lang="en-GB" sz="2500" spc="-1" strike="noStrike">
                <a:solidFill>
                  <a:srgbClr val="3333cc"/>
                </a:solidFill>
                <a:latin typeface="Arial"/>
                <a:ea typeface="Arial Unicode MS"/>
              </a:rPr>
              <a:t>cheap, cheese, cook, kitchen, mile, noon, street, wall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981000" indent="-523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"/>
              <a:tabLst>
                <a:tab algn="l" pos="60012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80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3333cc"/>
                </a:solidFill>
                <a:latin typeface="Arial"/>
                <a:ea typeface="Arial Unicode MS"/>
              </a:rPr>
              <a:t>Christianity: </a:t>
            </a:r>
            <a:r>
              <a:rPr b="0" i="1" lang="en-GB" sz="2500" spc="-1" strike="noStrike">
                <a:solidFill>
                  <a:srgbClr val="3333cc"/>
                </a:solidFill>
                <a:latin typeface="Arial"/>
                <a:ea typeface="Arial Unicode MS"/>
              </a:rPr>
              <a:t>angel, candle, church, devi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981000" indent="-523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"/>
              <a:tabLst>
                <a:tab algn="l" pos="60012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80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3333cc"/>
                </a:solidFill>
                <a:latin typeface="Arial"/>
                <a:ea typeface="Arial Unicode MS"/>
              </a:rPr>
              <a:t>Norse: </a:t>
            </a:r>
            <a:r>
              <a:rPr b="0" i="1" lang="en-US" sz="2500" spc="-1" strike="noStrike">
                <a:solidFill>
                  <a:srgbClr val="3333cc"/>
                </a:solidFill>
                <a:latin typeface="Arial"/>
                <a:ea typeface="Arial Unicode MS"/>
              </a:rPr>
              <a:t>anger, egg, fellow, flat, get, give, leg, scream, she, skin, odd, sky, take, they,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i="1" lang="en-US" sz="2500" spc="-1" strike="noStrike">
                <a:solidFill>
                  <a:srgbClr val="3333cc"/>
                </a:solidFill>
                <a:latin typeface="Arial"/>
                <a:ea typeface="Arial Unicode MS"/>
              </a:rPr>
              <a:t>window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2320" y="436680"/>
            <a:ext cx="766620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Arial"/>
              </a:rPr>
              <a:t>Using Etymology to Teach English Vocabul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5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5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7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720720" y="2017800"/>
            <a:ext cx="7559640" cy="46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0120" indent="-6001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0012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80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(Extremely) Potted history of English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1000" indent="-52380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60012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80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500" spc="-1" strike="noStrike">
                <a:solidFill>
                  <a:srgbClr val="3333cc"/>
                </a:solidFill>
                <a:latin typeface="Arial"/>
                <a:ea typeface="Arial Unicode MS"/>
              </a:rPr>
              <a:t>Norman conquest: </a:t>
            </a:r>
            <a:r>
              <a:rPr b="0" i="1" lang="en-US" sz="2500" spc="-1" strike="noStrike">
                <a:solidFill>
                  <a:srgbClr val="3333cc"/>
                </a:solidFill>
                <a:latin typeface="Arial"/>
                <a:ea typeface="Arial Unicode MS"/>
              </a:rPr>
              <a:t>archer, assault, asset, beef, chief, chivalry, court, curfew, defeat, dress, dungeon, eagle, fashion, grief, injury, judge, leisure, mutton, noble, odour, prison, push, quiet, reason, rest, royal, search, squirrel, tax, trouble, uncle, venison, warde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981000" indent="-52380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60012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80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500" spc="-1" strike="noStrike">
                <a:solidFill>
                  <a:srgbClr val="3333cc"/>
                </a:solidFill>
                <a:latin typeface="Arial"/>
                <a:ea typeface="Arial Unicode MS"/>
              </a:rPr>
              <a:t>Renaissance onward: </a:t>
            </a:r>
            <a:r>
              <a:rPr b="0" i="1" lang="en-GB" sz="2500" spc="-1" strike="noStrike">
                <a:solidFill>
                  <a:srgbClr val="3333cc"/>
                </a:solidFill>
                <a:latin typeface="Arial"/>
                <a:ea typeface="Arial Unicode MS"/>
              </a:rPr>
              <a:t>agent</a:t>
            </a:r>
            <a:r>
              <a:rPr b="0" lang="en-GB" sz="2500" spc="-1" strike="noStrike">
                <a:solidFill>
                  <a:srgbClr val="3333cc"/>
                </a:solidFill>
                <a:latin typeface="Arial"/>
                <a:ea typeface="Arial Unicode MS"/>
              </a:rPr>
              <a:t>, </a:t>
            </a:r>
            <a:r>
              <a:rPr b="0" i="1" lang="en-GB" sz="2500" spc="-1" strike="noStrike">
                <a:solidFill>
                  <a:srgbClr val="3333cc"/>
                </a:solidFill>
                <a:latin typeface="Arial"/>
                <a:ea typeface="Arial Unicode MS"/>
              </a:rPr>
              <a:t>capital</a:t>
            </a:r>
            <a:r>
              <a:rPr b="0" lang="en-GB" sz="2500" spc="-1" strike="noStrike">
                <a:solidFill>
                  <a:srgbClr val="3333cc"/>
                </a:solidFill>
                <a:latin typeface="Arial"/>
                <a:ea typeface="Arial Unicode MS"/>
              </a:rPr>
              <a:t>, </a:t>
            </a:r>
            <a:r>
              <a:rPr b="0" i="1" lang="en-GB" sz="2500" spc="-1" strike="noStrike">
                <a:solidFill>
                  <a:srgbClr val="3333cc"/>
                </a:solidFill>
                <a:latin typeface="Arial"/>
                <a:ea typeface="Arial Unicode MS"/>
              </a:rPr>
              <a:t>concrete</a:t>
            </a:r>
            <a:r>
              <a:rPr b="0" lang="en-GB" sz="2500" spc="-1" strike="noStrike">
                <a:solidFill>
                  <a:srgbClr val="3333cc"/>
                </a:solidFill>
                <a:latin typeface="Arial"/>
                <a:ea typeface="Arial Unicode MS"/>
              </a:rPr>
              <a:t>, </a:t>
            </a:r>
            <a:r>
              <a:rPr b="0" i="1" lang="en-GB" sz="2500" spc="-1" strike="noStrike">
                <a:solidFill>
                  <a:srgbClr val="3333cc"/>
                </a:solidFill>
                <a:latin typeface="Arial"/>
                <a:ea typeface="Arial Unicode MS"/>
              </a:rPr>
              <a:t>donation</a:t>
            </a:r>
            <a:r>
              <a:rPr b="0" lang="en-GB" sz="2500" spc="-1" strike="noStrike">
                <a:solidFill>
                  <a:srgbClr val="3333cc"/>
                </a:solidFill>
                <a:latin typeface="Arial"/>
                <a:ea typeface="Arial Unicode MS"/>
              </a:rPr>
              <a:t>, </a:t>
            </a:r>
            <a:r>
              <a:rPr b="0" i="1" lang="en-GB" sz="2500" spc="-1" strike="noStrike">
                <a:solidFill>
                  <a:srgbClr val="3333cc"/>
                </a:solidFill>
                <a:latin typeface="Arial"/>
                <a:ea typeface="Arial Unicode MS"/>
              </a:rPr>
              <a:t>dual</a:t>
            </a:r>
            <a:r>
              <a:rPr b="0" lang="en-GB" sz="2500" spc="-1" strike="noStrike">
                <a:solidFill>
                  <a:srgbClr val="3333cc"/>
                </a:solidFill>
                <a:latin typeface="Arial"/>
                <a:ea typeface="Arial Unicode MS"/>
              </a:rPr>
              <a:t>, </a:t>
            </a:r>
            <a:r>
              <a:rPr b="0" i="1" lang="en-GB" sz="2500" spc="-1" strike="noStrike">
                <a:solidFill>
                  <a:srgbClr val="3333cc"/>
                </a:solidFill>
                <a:latin typeface="Arial"/>
                <a:ea typeface="Arial Unicode MS"/>
              </a:rPr>
              <a:t>fact</a:t>
            </a:r>
            <a:r>
              <a:rPr b="0" lang="en-GB" sz="2500" spc="-1" strike="noStrike">
                <a:solidFill>
                  <a:srgbClr val="3333cc"/>
                </a:solidFill>
                <a:latin typeface="Arial"/>
                <a:ea typeface="Arial Unicode MS"/>
              </a:rPr>
              <a:t>, </a:t>
            </a:r>
            <a:r>
              <a:rPr b="0" i="1" lang="en-GB" sz="2500" spc="-1" strike="noStrike">
                <a:solidFill>
                  <a:srgbClr val="3333cc"/>
                </a:solidFill>
                <a:latin typeface="Arial"/>
                <a:ea typeface="Arial Unicode MS"/>
              </a:rPr>
              <a:t>finite</a:t>
            </a:r>
            <a:r>
              <a:rPr b="0" lang="en-GB" sz="2500" spc="-1" strike="noStrike">
                <a:solidFill>
                  <a:srgbClr val="3333cc"/>
                </a:solidFill>
                <a:latin typeface="Arial"/>
                <a:ea typeface="Arial Unicode MS"/>
              </a:rPr>
              <a:t>, </a:t>
            </a:r>
            <a:r>
              <a:rPr b="0" i="1" lang="en-GB" sz="2500" spc="-1" strike="noStrike">
                <a:solidFill>
                  <a:srgbClr val="3333cc"/>
                </a:solidFill>
                <a:latin typeface="Arial"/>
                <a:ea typeface="Arial Unicode MS"/>
              </a:rPr>
              <a:t>fracture</a:t>
            </a:r>
            <a:r>
              <a:rPr b="0" lang="en-GB" sz="2500" spc="-1" strike="noStrike">
                <a:solidFill>
                  <a:srgbClr val="3333cc"/>
                </a:solidFill>
                <a:latin typeface="Arial"/>
                <a:ea typeface="Arial Unicode MS"/>
              </a:rPr>
              <a:t>, </a:t>
            </a:r>
            <a:r>
              <a:rPr b="0" i="1" lang="en-GB" sz="2500" spc="-1" strike="noStrike">
                <a:solidFill>
                  <a:srgbClr val="3333cc"/>
                </a:solidFill>
                <a:latin typeface="Arial"/>
                <a:ea typeface="Arial Unicode MS"/>
              </a:rPr>
              <a:t>general</a:t>
            </a:r>
            <a:r>
              <a:rPr b="0" lang="en-GB" sz="2500" spc="-1" strike="noStrike">
                <a:solidFill>
                  <a:srgbClr val="3333cc"/>
                </a:solidFill>
                <a:latin typeface="Arial"/>
                <a:ea typeface="Arial Unicode MS"/>
              </a:rPr>
              <a:t>, </a:t>
            </a:r>
            <a:r>
              <a:rPr b="0" i="1" lang="en-GB" sz="2500" spc="-1" strike="noStrike">
                <a:solidFill>
                  <a:srgbClr val="3333cc"/>
                </a:solidFill>
                <a:latin typeface="Arial"/>
                <a:ea typeface="Arial Unicode MS"/>
              </a:rPr>
              <a:t>local</a:t>
            </a:r>
            <a:r>
              <a:rPr b="0" lang="en-GB" sz="2500" spc="-1" strike="noStrike">
                <a:solidFill>
                  <a:srgbClr val="3333cc"/>
                </a:solidFill>
                <a:latin typeface="Arial"/>
                <a:ea typeface="Arial Unicode MS"/>
              </a:rPr>
              <a:t>, </a:t>
            </a:r>
            <a:r>
              <a:rPr b="0" i="1" lang="en-GB" sz="2500" spc="-1" strike="noStrike">
                <a:solidFill>
                  <a:srgbClr val="3333cc"/>
                </a:solidFill>
                <a:latin typeface="Arial"/>
                <a:ea typeface="Arial Unicode MS"/>
              </a:rPr>
              <a:t>memory</a:t>
            </a:r>
            <a:r>
              <a:rPr b="0" lang="en-GB" sz="2500" spc="-1" strike="noStrike">
                <a:solidFill>
                  <a:srgbClr val="3333cc"/>
                </a:solidFill>
                <a:latin typeface="Arial"/>
                <a:ea typeface="Arial Unicode MS"/>
              </a:rPr>
              <a:t>, </a:t>
            </a:r>
            <a:r>
              <a:rPr b="0" i="1" lang="en-GB" sz="2500" spc="-1" strike="noStrike">
                <a:solidFill>
                  <a:srgbClr val="3333cc"/>
                </a:solidFill>
                <a:latin typeface="Arial"/>
                <a:ea typeface="Arial Unicode MS"/>
              </a:rPr>
              <a:t>minor</a:t>
            </a:r>
            <a:r>
              <a:rPr b="0" lang="en-GB" sz="2500" spc="-1" strike="noStrike">
                <a:solidFill>
                  <a:srgbClr val="3333cc"/>
                </a:solidFill>
                <a:latin typeface="Arial"/>
                <a:ea typeface="Arial Unicode MS"/>
              </a:rPr>
              <a:t>, </a:t>
            </a:r>
            <a:r>
              <a:rPr b="0" i="1" lang="en-GB" sz="2500" spc="-1" strike="noStrike">
                <a:solidFill>
                  <a:srgbClr val="3333cc"/>
                </a:solidFill>
                <a:latin typeface="Arial"/>
                <a:ea typeface="Arial Unicode MS"/>
              </a:rPr>
              <a:t>nature</a:t>
            </a:r>
            <a:r>
              <a:rPr b="0" lang="en-GB" sz="2500" spc="-1" strike="noStrike">
                <a:solidFill>
                  <a:srgbClr val="3333cc"/>
                </a:solidFill>
                <a:latin typeface="Arial"/>
                <a:ea typeface="Arial Unicode MS"/>
              </a:rPr>
              <a:t>, </a:t>
            </a:r>
            <a:r>
              <a:rPr b="0" i="1" lang="en-GB" sz="2500" spc="-1" strike="noStrike">
                <a:solidFill>
                  <a:srgbClr val="3333cc"/>
                </a:solidFill>
                <a:latin typeface="Arial"/>
                <a:ea typeface="Arial Unicode MS"/>
              </a:rPr>
              <a:t>person</a:t>
            </a:r>
            <a:r>
              <a:rPr b="0" lang="en-GB" sz="2500" spc="-1" strike="noStrike">
                <a:solidFill>
                  <a:srgbClr val="3333cc"/>
                </a:solidFill>
                <a:latin typeface="Arial"/>
                <a:ea typeface="Arial Unicode MS"/>
              </a:rPr>
              <a:t>, </a:t>
            </a:r>
            <a:r>
              <a:rPr b="0" i="1" lang="en-GB" sz="2500" spc="-1" strike="noStrike">
                <a:solidFill>
                  <a:srgbClr val="3333cc"/>
                </a:solidFill>
                <a:latin typeface="Arial"/>
                <a:ea typeface="Arial Unicode MS"/>
              </a:rPr>
              <a:t>progress</a:t>
            </a:r>
            <a:r>
              <a:rPr b="0" lang="en-GB" sz="2500" spc="-1" strike="noStrike">
                <a:solidFill>
                  <a:srgbClr val="3333cc"/>
                </a:solidFill>
                <a:latin typeface="Arial"/>
                <a:ea typeface="Arial Unicode MS"/>
              </a:rPr>
              <a:t>, </a:t>
            </a:r>
            <a:r>
              <a:rPr b="0" i="1" lang="en-GB" sz="2500" spc="-1" strike="noStrike">
                <a:solidFill>
                  <a:srgbClr val="3333cc"/>
                </a:solidFill>
                <a:latin typeface="Arial"/>
                <a:ea typeface="Arial Unicode MS"/>
              </a:rPr>
              <a:t>reside</a:t>
            </a:r>
            <a:r>
              <a:rPr b="0" lang="en-GB" sz="2500" spc="-1" strike="noStrike">
                <a:solidFill>
                  <a:srgbClr val="3333cc"/>
                </a:solidFill>
                <a:latin typeface="Arial"/>
                <a:ea typeface="Arial Unicode MS"/>
              </a:rPr>
              <a:t>, </a:t>
            </a:r>
            <a:r>
              <a:rPr b="0" i="1" lang="en-GB" sz="2500" spc="-1" strike="noStrike">
                <a:solidFill>
                  <a:srgbClr val="3333cc"/>
                </a:solidFill>
                <a:latin typeface="Arial"/>
                <a:ea typeface="Arial Unicode MS"/>
              </a:rPr>
              <a:t>solve</a:t>
            </a:r>
            <a:r>
              <a:rPr b="0" lang="en-GB" sz="2500" spc="-1" strike="noStrike">
                <a:solidFill>
                  <a:srgbClr val="3333cc"/>
                </a:solidFill>
                <a:latin typeface="Arial"/>
                <a:ea typeface="Arial Unicode MS"/>
              </a:rPr>
              <a:t>, </a:t>
            </a:r>
            <a:r>
              <a:rPr b="0" i="1" lang="en-GB" sz="2500" spc="-1" strike="noStrike">
                <a:solidFill>
                  <a:srgbClr val="3333cc"/>
                </a:solidFill>
                <a:latin typeface="Arial"/>
                <a:ea typeface="Arial Unicode MS"/>
              </a:rPr>
              <a:t>spectator</a:t>
            </a:r>
            <a:r>
              <a:rPr b="0" lang="en-GB" sz="2500" spc="-1" strike="noStrike">
                <a:solidFill>
                  <a:srgbClr val="3333cc"/>
                </a:solidFill>
                <a:latin typeface="Arial"/>
                <a:ea typeface="Arial Unicode MS"/>
              </a:rPr>
              <a:t>, </a:t>
            </a:r>
            <a:r>
              <a:rPr b="0" i="1" lang="en-GB" sz="2500" spc="-1" strike="noStrike">
                <a:solidFill>
                  <a:srgbClr val="3333cc"/>
                </a:solidFill>
                <a:latin typeface="Arial"/>
                <a:ea typeface="Arial Unicode MS"/>
              </a:rPr>
              <a:t>spectrum</a:t>
            </a:r>
            <a:r>
              <a:rPr b="0" lang="en-GB" sz="2500" spc="-1" strike="noStrike">
                <a:solidFill>
                  <a:srgbClr val="3333cc"/>
                </a:solidFill>
                <a:latin typeface="Arial"/>
                <a:ea typeface="Arial Unicode MS"/>
              </a:rPr>
              <a:t>, </a:t>
            </a:r>
            <a:r>
              <a:rPr b="0" i="1" lang="en-GB" sz="2500" spc="-1" strike="noStrike">
                <a:solidFill>
                  <a:srgbClr val="3333cc"/>
                </a:solidFill>
                <a:latin typeface="Arial"/>
                <a:ea typeface="Arial Unicode MS"/>
              </a:rPr>
              <a:t>status</a:t>
            </a:r>
            <a:r>
              <a:rPr b="0" lang="en-GB" sz="2500" spc="-1" strike="noStrike">
                <a:solidFill>
                  <a:srgbClr val="3333cc"/>
                </a:solidFill>
                <a:latin typeface="Arial"/>
                <a:ea typeface="Arial Unicode MS"/>
              </a:rPr>
              <a:t>, </a:t>
            </a:r>
            <a:r>
              <a:rPr b="0" i="1" lang="en-GB" sz="2500" spc="-1" strike="noStrike">
                <a:solidFill>
                  <a:srgbClr val="3333cc"/>
                </a:solidFill>
                <a:latin typeface="Arial"/>
                <a:ea typeface="Arial Unicode MS"/>
              </a:rPr>
              <a:t>tractor, vacat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52320" y="436680"/>
            <a:ext cx="766620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Arial"/>
              </a:rPr>
              <a:t>Using Etymology to Teach English Vocabul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79280" y="2421000"/>
            <a:ext cx="828036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0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241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3333cc"/>
                </a:solidFill>
                <a:latin typeface="Arial"/>
                <a:ea typeface="Arial Unicode MS"/>
              </a:rPr>
              <a:t>rex</a:t>
            </a:r>
            <a:r>
              <a:rPr b="0" i="1" lang="en-GB" sz="2000" spc="-1" strike="noStrike">
                <a:solidFill>
                  <a:srgbClr val="3333cc"/>
                </a:solidFill>
                <a:latin typeface="Arial"/>
                <a:ea typeface="Arial Unicode MS"/>
              </a:rPr>
              <a:t>, “king”</a:t>
            </a:r>
            <a:r>
              <a:rPr b="0" i="1" lang="en-GB" sz="2000" spc="-1" strike="noStrike">
                <a:solidFill>
                  <a:srgbClr val="3333cc"/>
                </a:solidFill>
                <a:latin typeface="Arial"/>
                <a:ea typeface="Arial Unicode MS"/>
              </a:rPr>
              <a:t>	</a:t>
            </a:r>
            <a:r>
              <a:rPr b="0" i="1" lang="en-GB" sz="2000" spc="-1" strike="noStrike">
                <a:solidFill>
                  <a:srgbClr val="3333cc"/>
                </a:solidFill>
                <a:latin typeface="Arial"/>
                <a:ea typeface="Arial Unicode MS"/>
              </a:rPr>
              <a:t>	</a:t>
            </a:r>
            <a:r>
              <a:rPr b="0" i="1" lang="en-GB" sz="2000" spc="-1" strike="noStrike">
                <a:solidFill>
                  <a:srgbClr val="3333cc"/>
                </a:solidFill>
                <a:latin typeface="Arial"/>
                <a:ea typeface="Arial Unicode MS"/>
              </a:rPr>
              <a:t>→ regal (from Latin via Old French)  royal </a:t>
            </a:r>
            <a:r>
              <a:rPr b="0" i="1" lang="en-GB" sz="2000" spc="-1" strike="noStrike">
                <a:solidFill>
                  <a:srgbClr val="3333cc"/>
                </a:solidFill>
                <a:latin typeface="Arial"/>
                <a:ea typeface="Arial Unicode MS"/>
              </a:rPr>
              <a:t>	</a:t>
            </a:r>
            <a:r>
              <a:rPr b="0" i="1" lang="en-GB" sz="2000" spc="-1" strike="noStrike">
                <a:solidFill>
                  <a:srgbClr val="3333cc"/>
                </a:solidFill>
                <a:latin typeface="Arial"/>
                <a:ea typeface="Arial Unicode MS"/>
              </a:rPr>
              <a:t>	</a:t>
            </a:r>
            <a:r>
              <a:rPr b="0" i="1" lang="en-GB" sz="2000" spc="-1" strike="noStrike">
                <a:solidFill>
                  <a:srgbClr val="3333cc"/>
                </a:solidFill>
                <a:latin typeface="Arial"/>
                <a:ea typeface="Arial Unicode MS"/>
              </a:rPr>
              <a:t>	</a:t>
            </a:r>
            <a:r>
              <a:rPr b="0" i="1" lang="en-GB" sz="2000" spc="-1" strike="noStrike">
                <a:solidFill>
                  <a:srgbClr val="3333cc"/>
                </a:solidFill>
                <a:latin typeface="Arial"/>
                <a:ea typeface="Arial Unicode MS"/>
              </a:rPr>
              <a:t>	</a:t>
            </a:r>
            <a:r>
              <a:rPr b="0" i="1" lang="en-GB" sz="2000" spc="-1" strike="noStrike">
                <a:solidFill>
                  <a:srgbClr val="3333cc"/>
                </a:solidFill>
                <a:latin typeface="Arial"/>
                <a:ea typeface="Arial Unicode MS"/>
              </a:rPr>
              <a:t>	</a:t>
            </a:r>
            <a:r>
              <a:rPr b="0" i="1" lang="en-GB" sz="2000" spc="-1" strike="noStrike">
                <a:solidFill>
                  <a:srgbClr val="3333cc"/>
                </a:solidFill>
                <a:latin typeface="Arial"/>
                <a:ea typeface="Arial Unicode MS"/>
              </a:rPr>
              <a:t>	</a:t>
            </a:r>
            <a:r>
              <a:rPr b="0" i="1" lang="en-GB" sz="2000" spc="-1" strike="noStrike">
                <a:solidFill>
                  <a:srgbClr val="3333cc"/>
                </a:solidFill>
                <a:latin typeface="Arial"/>
                <a:ea typeface="Arial Unicode MS"/>
              </a:rPr>
              <a:t>(from Old Frenc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241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3333cc"/>
                </a:solidFill>
                <a:latin typeface="Arial"/>
                <a:ea typeface="Arial Unicode MS"/>
              </a:rPr>
              <a:t>vox</a:t>
            </a:r>
            <a:r>
              <a:rPr b="0" i="1" lang="en-GB" sz="2000" spc="-1" strike="noStrike">
                <a:solidFill>
                  <a:srgbClr val="3333cc"/>
                </a:solidFill>
                <a:latin typeface="Arial"/>
                <a:ea typeface="Arial Unicode MS"/>
              </a:rPr>
              <a:t>, “voice”</a:t>
            </a:r>
            <a:r>
              <a:rPr b="0" i="1" lang="en-GB" sz="2000" spc="-1" strike="noStrike">
                <a:solidFill>
                  <a:srgbClr val="3333cc"/>
                </a:solidFill>
                <a:latin typeface="Arial"/>
                <a:ea typeface="Arial Unicode MS"/>
              </a:rPr>
              <a:t>	</a:t>
            </a:r>
            <a:r>
              <a:rPr b="0" i="1" lang="en-GB" sz="2000" spc="-1" strike="noStrike">
                <a:solidFill>
                  <a:srgbClr val="3333cc"/>
                </a:solidFill>
                <a:latin typeface="Arial"/>
                <a:ea typeface="Arial Unicode MS"/>
              </a:rPr>
              <a:t>	</a:t>
            </a:r>
            <a:r>
              <a:rPr b="0" i="1" lang="en-GB" sz="2000" spc="-1" strike="noStrike">
                <a:solidFill>
                  <a:srgbClr val="3333cc"/>
                </a:solidFill>
                <a:latin typeface="Arial"/>
                <a:ea typeface="Arial Unicode MS"/>
              </a:rPr>
              <a:t>→ vocal (from Latin via Old French) vowel </a:t>
            </a:r>
            <a:r>
              <a:rPr b="0" i="1" lang="en-GB" sz="2000" spc="-1" strike="noStrike">
                <a:solidFill>
                  <a:srgbClr val="3333cc"/>
                </a:solidFill>
                <a:latin typeface="Arial"/>
                <a:ea typeface="Arial Unicode MS"/>
              </a:rPr>
              <a:t>	</a:t>
            </a:r>
            <a:r>
              <a:rPr b="0" i="1" lang="en-GB" sz="2000" spc="-1" strike="noStrike">
                <a:solidFill>
                  <a:srgbClr val="3333cc"/>
                </a:solidFill>
                <a:latin typeface="Arial"/>
                <a:ea typeface="Arial Unicode MS"/>
              </a:rPr>
              <a:t>	</a:t>
            </a:r>
            <a:r>
              <a:rPr b="0" i="1" lang="en-GB" sz="2000" spc="-1" strike="noStrike">
                <a:solidFill>
                  <a:srgbClr val="3333cc"/>
                </a:solidFill>
                <a:latin typeface="Arial"/>
                <a:ea typeface="Arial Unicode MS"/>
              </a:rPr>
              <a:t>	</a:t>
            </a:r>
            <a:r>
              <a:rPr b="0" i="1" lang="en-GB" sz="2000" spc="-1" strike="noStrike">
                <a:solidFill>
                  <a:srgbClr val="3333cc"/>
                </a:solidFill>
                <a:latin typeface="Arial"/>
                <a:ea typeface="Arial Unicode MS"/>
              </a:rPr>
              <a:t>	</a:t>
            </a:r>
            <a:r>
              <a:rPr b="0" i="1" lang="en-GB" sz="2000" spc="-1" strike="noStrike">
                <a:solidFill>
                  <a:srgbClr val="3333cc"/>
                </a:solidFill>
                <a:latin typeface="Arial"/>
                <a:ea typeface="Arial Unicode MS"/>
              </a:rPr>
              <a:t>	</a:t>
            </a:r>
            <a:r>
              <a:rPr b="0" i="1" lang="en-GB" sz="2000" spc="-1" strike="noStrike">
                <a:solidFill>
                  <a:srgbClr val="3333cc"/>
                </a:solidFill>
                <a:latin typeface="Arial"/>
                <a:ea typeface="Arial Unicode MS"/>
              </a:rPr>
              <a:t>	</a:t>
            </a:r>
            <a:r>
              <a:rPr b="0" i="1" lang="en-GB" sz="2000" spc="-1" strike="noStrike">
                <a:solidFill>
                  <a:srgbClr val="3333cc"/>
                </a:solidFill>
                <a:latin typeface="Arial"/>
                <a:ea typeface="Arial Unicode MS"/>
              </a:rPr>
              <a:t>(from Old Frenc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241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3333cc"/>
                </a:solidFill>
                <a:latin typeface="Arial"/>
                <a:ea typeface="Arial Unicode MS"/>
              </a:rPr>
              <a:t>securus</a:t>
            </a:r>
            <a:r>
              <a:rPr b="0" i="1" lang="en-GB" sz="2000" spc="-1" strike="noStrike">
                <a:solidFill>
                  <a:srgbClr val="3333cc"/>
                </a:solidFill>
                <a:latin typeface="Arial"/>
                <a:ea typeface="Arial Unicode MS"/>
              </a:rPr>
              <a:t>, “safe” </a:t>
            </a:r>
            <a:r>
              <a:rPr b="0" i="1" lang="en-GB" sz="2000" spc="-1" strike="noStrike">
                <a:solidFill>
                  <a:srgbClr val="3333cc"/>
                </a:solidFill>
                <a:latin typeface="Arial"/>
                <a:ea typeface="Arial Unicode MS"/>
              </a:rPr>
              <a:t>	</a:t>
            </a:r>
            <a:r>
              <a:rPr b="0" i="1" lang="en-GB" sz="2000" spc="-1" strike="noStrike">
                <a:solidFill>
                  <a:srgbClr val="3333cc"/>
                </a:solidFill>
                <a:latin typeface="Arial"/>
                <a:ea typeface="Arial Unicode MS"/>
              </a:rPr>
              <a:t>→ secure (from Latin) sure (from Old Frenc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241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3333cc"/>
                </a:solidFill>
                <a:latin typeface="Arial"/>
                <a:ea typeface="Arial Unicode MS"/>
              </a:rPr>
              <a:t>jungere</a:t>
            </a:r>
            <a:r>
              <a:rPr b="0" i="1" lang="en-GB" sz="2000" spc="-1" strike="noStrike">
                <a:solidFill>
                  <a:srgbClr val="3333cc"/>
                </a:solidFill>
                <a:latin typeface="Arial"/>
                <a:ea typeface="Arial Unicode MS"/>
              </a:rPr>
              <a:t>, “join”</a:t>
            </a:r>
            <a:r>
              <a:rPr b="0" i="1" lang="en-GB" sz="2000" spc="-1" strike="noStrike">
                <a:solidFill>
                  <a:srgbClr val="3333cc"/>
                </a:solidFill>
                <a:latin typeface="Arial"/>
                <a:ea typeface="Arial Unicode MS"/>
              </a:rPr>
              <a:t>	</a:t>
            </a:r>
            <a:r>
              <a:rPr b="0" i="1" lang="en-GB" sz="2000" spc="-1" strike="noStrike">
                <a:solidFill>
                  <a:srgbClr val="3333cc"/>
                </a:solidFill>
                <a:latin typeface="Arial"/>
                <a:ea typeface="Arial Unicode MS"/>
              </a:rPr>
              <a:t>→ junction (from Latin via Old French) joint </a:t>
            </a:r>
            <a:r>
              <a:rPr b="0" i="1" lang="en-GB" sz="2000" spc="-1" strike="noStrike">
                <a:solidFill>
                  <a:srgbClr val="3333cc"/>
                </a:solidFill>
                <a:latin typeface="Arial"/>
                <a:ea typeface="Arial Unicode MS"/>
              </a:rPr>
              <a:t>	</a:t>
            </a:r>
            <a:r>
              <a:rPr b="0" i="1" lang="en-GB" sz="2000" spc="-1" strike="noStrike">
                <a:solidFill>
                  <a:srgbClr val="3333cc"/>
                </a:solidFill>
                <a:latin typeface="Arial"/>
                <a:ea typeface="Arial Unicode MS"/>
              </a:rPr>
              <a:t>	</a:t>
            </a:r>
            <a:r>
              <a:rPr b="0" i="1" lang="en-GB" sz="2000" spc="-1" strike="noStrike">
                <a:solidFill>
                  <a:srgbClr val="3333cc"/>
                </a:solidFill>
                <a:latin typeface="Arial"/>
                <a:ea typeface="Arial Unicode MS"/>
              </a:rPr>
              <a:t>	</a:t>
            </a:r>
            <a:r>
              <a:rPr b="0" i="1" lang="en-GB" sz="2000" spc="-1" strike="noStrike">
                <a:solidFill>
                  <a:srgbClr val="3333cc"/>
                </a:solidFill>
                <a:latin typeface="Arial"/>
                <a:ea typeface="Arial Unicode MS"/>
              </a:rPr>
              <a:t>	</a:t>
            </a:r>
            <a:r>
              <a:rPr b="0" i="1" lang="en-GB" sz="2000" spc="-1" strike="noStrike">
                <a:solidFill>
                  <a:srgbClr val="3333cc"/>
                </a:solidFill>
                <a:latin typeface="Arial"/>
                <a:ea typeface="Arial Unicode MS"/>
              </a:rPr>
              <a:t>	</a:t>
            </a:r>
            <a:r>
              <a:rPr b="0" i="1" lang="en-GB" sz="2000" spc="-1" strike="noStrike">
                <a:solidFill>
                  <a:srgbClr val="3333cc"/>
                </a:solidFill>
                <a:latin typeface="Arial"/>
                <a:ea typeface="Arial Unicode MS"/>
              </a:rPr>
              <a:t>	</a:t>
            </a:r>
            <a:r>
              <a:rPr b="0" i="1" lang="en-GB" sz="2000" spc="-1" strike="noStrike">
                <a:solidFill>
                  <a:srgbClr val="3333cc"/>
                </a:solidFill>
                <a:latin typeface="Arial"/>
                <a:ea typeface="Arial Unicode MS"/>
              </a:rPr>
              <a:t>(from Old Frenc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241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3333cc"/>
                </a:solidFill>
                <a:latin typeface="Arial"/>
                <a:ea typeface="Arial Unicode MS"/>
              </a:rPr>
              <a:t>pungere</a:t>
            </a:r>
            <a:r>
              <a:rPr b="0" i="1" lang="en-GB" sz="2000" spc="-1" strike="noStrike">
                <a:solidFill>
                  <a:srgbClr val="3333cc"/>
                </a:solidFill>
                <a:latin typeface="Arial"/>
                <a:ea typeface="Arial Unicode MS"/>
              </a:rPr>
              <a:t>, “pierce”</a:t>
            </a:r>
            <a:r>
              <a:rPr b="0" i="1" lang="en-GB" sz="2000" spc="-1" strike="noStrike">
                <a:solidFill>
                  <a:srgbClr val="3333cc"/>
                </a:solidFill>
                <a:latin typeface="Arial"/>
                <a:ea typeface="Arial Unicode MS"/>
              </a:rPr>
              <a:t>	</a:t>
            </a:r>
            <a:r>
              <a:rPr b="0" i="1" lang="en-GB" sz="2000" spc="-1" strike="noStrike">
                <a:solidFill>
                  <a:srgbClr val="3333cc"/>
                </a:solidFill>
                <a:latin typeface="Arial"/>
                <a:ea typeface="Arial Unicode MS"/>
              </a:rPr>
              <a:t>→ puncture (from Latin via Old French) point </a:t>
            </a:r>
            <a:r>
              <a:rPr b="0" i="1" lang="en-GB" sz="2000" spc="-1" strike="noStrike">
                <a:solidFill>
                  <a:srgbClr val="3333cc"/>
                </a:solidFill>
                <a:latin typeface="Arial"/>
                <a:ea typeface="Arial Unicode MS"/>
              </a:rPr>
              <a:t>	</a:t>
            </a:r>
            <a:r>
              <a:rPr b="0" i="1" lang="en-GB" sz="2000" spc="-1" strike="noStrike">
                <a:solidFill>
                  <a:srgbClr val="3333cc"/>
                </a:solidFill>
                <a:latin typeface="Arial"/>
                <a:ea typeface="Arial Unicode MS"/>
              </a:rPr>
              <a:t>	</a:t>
            </a:r>
            <a:r>
              <a:rPr b="0" i="1" lang="en-GB" sz="2000" spc="-1" strike="noStrike">
                <a:solidFill>
                  <a:srgbClr val="3333cc"/>
                </a:solidFill>
                <a:latin typeface="Arial"/>
                <a:ea typeface="Arial Unicode MS"/>
              </a:rPr>
              <a:t>	</a:t>
            </a:r>
            <a:r>
              <a:rPr b="0" i="1" lang="en-GB" sz="2000" spc="-1" strike="noStrike">
                <a:solidFill>
                  <a:srgbClr val="3333cc"/>
                </a:solidFill>
                <a:latin typeface="Arial"/>
                <a:ea typeface="Arial Unicode MS"/>
              </a:rPr>
              <a:t>	</a:t>
            </a:r>
            <a:r>
              <a:rPr b="0" i="1" lang="en-GB" sz="2000" spc="-1" strike="noStrike">
                <a:solidFill>
                  <a:srgbClr val="3333cc"/>
                </a:solidFill>
                <a:latin typeface="Arial"/>
                <a:ea typeface="Arial Unicode MS"/>
              </a:rPr>
              <a:t>	</a:t>
            </a:r>
            <a:r>
              <a:rPr b="0" i="1" lang="en-GB" sz="2000" spc="-1" strike="noStrike">
                <a:solidFill>
                  <a:srgbClr val="3333cc"/>
                </a:solidFill>
                <a:latin typeface="Arial"/>
                <a:ea typeface="Arial Unicode MS"/>
              </a:rPr>
              <a:t>(from Old Frenc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241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3333cc"/>
                </a:solidFill>
                <a:latin typeface="Arial"/>
                <a:ea typeface="Arial Unicode MS"/>
              </a:rPr>
              <a:t>caput</a:t>
            </a:r>
            <a:r>
              <a:rPr b="0" i="1" lang="en-GB" sz="2000" spc="-1" strike="noStrike">
                <a:solidFill>
                  <a:srgbClr val="3333cc"/>
                </a:solidFill>
                <a:latin typeface="Arial"/>
                <a:ea typeface="Arial Unicode MS"/>
              </a:rPr>
              <a:t>, “head” </a:t>
            </a:r>
            <a:r>
              <a:rPr b="0" i="1" lang="en-GB" sz="2000" spc="-1" strike="noStrike">
                <a:solidFill>
                  <a:srgbClr val="3333cc"/>
                </a:solidFill>
                <a:latin typeface="Arial"/>
                <a:ea typeface="Arial Unicode MS"/>
              </a:rPr>
              <a:t>	</a:t>
            </a:r>
            <a:r>
              <a:rPr b="0" i="1" lang="en-GB" sz="2000" spc="-1" strike="noStrike">
                <a:solidFill>
                  <a:srgbClr val="3333cc"/>
                </a:solidFill>
                <a:latin typeface="Arial"/>
                <a:ea typeface="Arial Unicode MS"/>
              </a:rPr>
              <a:t>→ capital (from Latin via Old French) chief </a:t>
            </a:r>
            <a:r>
              <a:rPr b="0" i="1" lang="en-GB" sz="2000" spc="-1" strike="noStrike">
                <a:solidFill>
                  <a:srgbClr val="3333cc"/>
                </a:solidFill>
                <a:latin typeface="Arial"/>
                <a:ea typeface="Arial Unicode MS"/>
              </a:rPr>
              <a:t>	</a:t>
            </a:r>
            <a:r>
              <a:rPr b="0" i="1" lang="en-GB" sz="2000" spc="-1" strike="noStrike">
                <a:solidFill>
                  <a:srgbClr val="3333cc"/>
                </a:solidFill>
                <a:latin typeface="Arial"/>
                <a:ea typeface="Arial Unicode MS"/>
              </a:rPr>
              <a:t>	</a:t>
            </a:r>
            <a:r>
              <a:rPr b="0" i="1" lang="en-GB" sz="2000" spc="-1" strike="noStrike">
                <a:solidFill>
                  <a:srgbClr val="3333cc"/>
                </a:solidFill>
                <a:latin typeface="Arial"/>
                <a:ea typeface="Arial Unicode MS"/>
              </a:rPr>
              <a:t>	</a:t>
            </a:r>
            <a:r>
              <a:rPr b="0" i="1" lang="en-GB" sz="2000" spc="-1" strike="noStrike">
                <a:solidFill>
                  <a:srgbClr val="3333cc"/>
                </a:solidFill>
                <a:latin typeface="Arial"/>
                <a:ea typeface="Arial Unicode MS"/>
              </a:rPr>
              <a:t>	</a:t>
            </a:r>
            <a:r>
              <a:rPr b="0" i="1" lang="en-GB" sz="2000" spc="-1" strike="noStrike">
                <a:solidFill>
                  <a:srgbClr val="3333cc"/>
                </a:solidFill>
                <a:latin typeface="Arial"/>
                <a:ea typeface="Arial Unicode MS"/>
              </a:rPr>
              <a:t>	</a:t>
            </a:r>
            <a:r>
              <a:rPr b="0" i="1" lang="en-GB" sz="2000" spc="-1" strike="noStrike">
                <a:solidFill>
                  <a:srgbClr val="3333cc"/>
                </a:solidFill>
                <a:latin typeface="Arial"/>
                <a:ea typeface="Arial Unicode MS"/>
              </a:rPr>
              <a:t>	</a:t>
            </a:r>
            <a:r>
              <a:rPr b="0" i="1" lang="en-GB" sz="2000" spc="-1" strike="noStrike">
                <a:solidFill>
                  <a:srgbClr val="3333cc"/>
                </a:solidFill>
                <a:latin typeface="Arial"/>
                <a:ea typeface="Arial Unicode MS"/>
              </a:rPr>
              <a:t>(from Old French) chef (from Modern </a:t>
            </a:r>
            <a:r>
              <a:rPr b="0" i="1" lang="en-GB" sz="2000" spc="-1" strike="noStrike">
                <a:solidFill>
                  <a:srgbClr val="3333cc"/>
                </a:solidFill>
                <a:latin typeface="Arial"/>
                <a:ea typeface="Arial Unicode MS"/>
              </a:rPr>
              <a:t>	</a:t>
            </a:r>
            <a:r>
              <a:rPr b="0" i="1" lang="en-GB" sz="2000" spc="-1" strike="noStrike">
                <a:solidFill>
                  <a:srgbClr val="3333cc"/>
                </a:solidFill>
                <a:latin typeface="Arial"/>
                <a:ea typeface="Arial Unicode MS"/>
              </a:rPr>
              <a:t>	</a:t>
            </a:r>
            <a:r>
              <a:rPr b="0" i="1" lang="en-GB" sz="2000" spc="-1" strike="noStrike">
                <a:solidFill>
                  <a:srgbClr val="3333cc"/>
                </a:solidFill>
                <a:latin typeface="Arial"/>
                <a:ea typeface="Arial Unicode MS"/>
              </a:rPr>
              <a:t>	</a:t>
            </a:r>
            <a:r>
              <a:rPr b="0" i="1" lang="en-GB" sz="2000" spc="-1" strike="noStrike">
                <a:solidFill>
                  <a:srgbClr val="3333cc"/>
                </a:solidFill>
                <a:latin typeface="Arial"/>
                <a:ea typeface="Arial Unicode MS"/>
              </a:rPr>
              <a:t>	</a:t>
            </a:r>
            <a:r>
              <a:rPr b="0" i="1" lang="en-GB" sz="2000" spc="-1" strike="noStrike">
                <a:solidFill>
                  <a:srgbClr val="3333cc"/>
                </a:solidFill>
                <a:latin typeface="Arial"/>
                <a:ea typeface="Arial Unicode MS"/>
              </a:rPr>
              <a:t>	</a:t>
            </a:r>
            <a:r>
              <a:rPr b="0" i="1" lang="en-GB" sz="2000" spc="-1" strike="noStrike">
                <a:solidFill>
                  <a:srgbClr val="3333cc"/>
                </a:solidFill>
                <a:latin typeface="Arial"/>
                <a:ea typeface="Arial Unicode MS"/>
              </a:rPr>
              <a:t>	</a:t>
            </a:r>
            <a:r>
              <a:rPr b="0" i="1" lang="en-GB" sz="2000" spc="-1" strike="noStrike">
                <a:solidFill>
                  <a:srgbClr val="3333cc"/>
                </a:solidFill>
                <a:latin typeface="Arial"/>
                <a:ea typeface="Arial Unicode MS"/>
              </a:rPr>
              <a:t>	</a:t>
            </a:r>
            <a:r>
              <a:rPr b="0" i="1" lang="en-GB" sz="2000" spc="-1" strike="noStrike">
                <a:solidFill>
                  <a:srgbClr val="3333cc"/>
                </a:solidFill>
                <a:latin typeface="Arial"/>
                <a:ea typeface="Arial Unicode MS"/>
              </a:rPr>
              <a:t>French) captain (from Latin through Old </a:t>
            </a:r>
            <a:r>
              <a:rPr b="0" i="1" lang="en-GB" sz="2000" spc="-1" strike="noStrike">
                <a:solidFill>
                  <a:srgbClr val="3333cc"/>
                </a:solidFill>
                <a:latin typeface="Arial"/>
                <a:ea typeface="Arial Unicode MS"/>
              </a:rPr>
              <a:t>	</a:t>
            </a:r>
            <a:r>
              <a:rPr b="0" i="1" lang="en-GB" sz="2000" spc="-1" strike="noStrike">
                <a:solidFill>
                  <a:srgbClr val="3333cc"/>
                </a:solidFill>
                <a:latin typeface="Arial"/>
                <a:ea typeface="Arial Unicode MS"/>
              </a:rPr>
              <a:t>	</a:t>
            </a:r>
            <a:r>
              <a:rPr b="0" i="1" lang="en-GB" sz="2000" spc="-1" strike="noStrike">
                <a:solidFill>
                  <a:srgbClr val="3333cc"/>
                </a:solidFill>
                <a:latin typeface="Arial"/>
                <a:ea typeface="Arial Unicode MS"/>
              </a:rPr>
              <a:t>	</a:t>
            </a:r>
            <a:r>
              <a:rPr b="0" i="1" lang="en-GB" sz="2000" spc="-1" strike="noStrike">
                <a:solidFill>
                  <a:srgbClr val="3333cc"/>
                </a:solidFill>
                <a:latin typeface="Arial"/>
                <a:ea typeface="Arial Unicode MS"/>
              </a:rPr>
              <a:t>	</a:t>
            </a:r>
            <a:r>
              <a:rPr b="0" i="1" lang="en-GB" sz="2000" spc="-1" strike="noStrike">
                <a:solidFill>
                  <a:srgbClr val="3333cc"/>
                </a:solidFill>
                <a:latin typeface="Arial"/>
                <a:ea typeface="Arial Unicode MS"/>
              </a:rPr>
              <a:t>	</a:t>
            </a:r>
            <a:r>
              <a:rPr b="0" i="1" lang="en-GB" sz="2000" spc="-1" strike="noStrike">
                <a:solidFill>
                  <a:srgbClr val="3333cc"/>
                </a:solidFill>
                <a:latin typeface="Arial"/>
                <a:ea typeface="Arial Unicode MS"/>
              </a:rPr>
              <a:t>	</a:t>
            </a:r>
            <a:r>
              <a:rPr b="0" i="1" lang="en-GB" sz="2000" spc="-1" strike="noStrike">
                <a:solidFill>
                  <a:srgbClr val="3333cc"/>
                </a:solidFill>
                <a:latin typeface="Arial"/>
                <a:ea typeface="Arial Unicode MS"/>
              </a:rPr>
              <a:t>French) chieftain (from Old Frenc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16000" y="1844640"/>
            <a:ext cx="7524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(Extremely) Potted history of English 3 - French or Lati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2320" y="436680"/>
            <a:ext cx="766620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Arial"/>
              </a:rPr>
              <a:t>Using Etymology to Teach English Vocabul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7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9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9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0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8T23:32:03Z</dcterms:created>
  <dc:creator> </dc:creator>
  <dc:description/>
  <dc:language>en-US</dc:language>
  <cp:lastModifiedBy>MDXTech</cp:lastModifiedBy>
  <dcterms:modified xsi:type="dcterms:W3CDTF">2014-10-07T11:52:00Z</dcterms:modified>
  <cp:revision>134</cp:revision>
  <dc:subject/>
  <dc:title>Slide 1</dc:title>
</cp:coreProperties>
</file>